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10288588" cy="6858000"/>
  <p:notesSz cx="6692900" cy="98488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2120" y="739800"/>
            <a:ext cx="892152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1" lang="en-US" sz="2800" spc="-1" strike="noStrike">
              <a:solidFill>
                <a:srgbClr val="000000"/>
              </a:solidFill>
              <a:latin typeface="NewsGoth B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1604520"/>
            <a:ext cx="92595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4440" y="3682080"/>
            <a:ext cx="92595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739800"/>
            <a:ext cx="892152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1" lang="en-US" sz="2800" spc="-1" strike="noStrike">
              <a:solidFill>
                <a:srgbClr val="000000"/>
              </a:solidFill>
              <a:latin typeface="NewsGoth B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14440" y="1604520"/>
            <a:ext cx="45183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259240" y="1604520"/>
            <a:ext cx="45183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14440" y="3682080"/>
            <a:ext cx="45183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259240" y="3682080"/>
            <a:ext cx="45183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2120" y="739800"/>
            <a:ext cx="892152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1" lang="en-US" sz="2800" spc="-1" strike="noStrike">
              <a:solidFill>
                <a:srgbClr val="000000"/>
              </a:solidFill>
              <a:latin typeface="NewsGoth B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14440" y="1604520"/>
            <a:ext cx="2981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45000" y="1604520"/>
            <a:ext cx="2981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775560" y="1604520"/>
            <a:ext cx="2981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514440" y="3682080"/>
            <a:ext cx="2981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45000" y="3682080"/>
            <a:ext cx="2981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775560" y="3682080"/>
            <a:ext cx="2981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2120" y="739800"/>
            <a:ext cx="892152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1" lang="en-US" sz="2800" spc="-1" strike="noStrike">
              <a:solidFill>
                <a:srgbClr val="000000"/>
              </a:solidFill>
              <a:latin typeface="NewsGoth B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514440" y="1604520"/>
            <a:ext cx="92595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739800"/>
            <a:ext cx="892152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1" lang="en-US" sz="2800" spc="-1" strike="noStrike">
              <a:solidFill>
                <a:srgbClr val="000000"/>
              </a:solidFill>
              <a:latin typeface="NewsGoth B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14440" y="1604520"/>
            <a:ext cx="92595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739800"/>
            <a:ext cx="892152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1" lang="en-US" sz="2800" spc="-1" strike="noStrike">
              <a:solidFill>
                <a:srgbClr val="000000"/>
              </a:solidFill>
              <a:latin typeface="NewsGoth B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14440" y="1604520"/>
            <a:ext cx="45183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59240" y="1604520"/>
            <a:ext cx="45183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2120" y="739800"/>
            <a:ext cx="892152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1" lang="en-US" sz="2800" spc="-1" strike="noStrike">
              <a:solidFill>
                <a:srgbClr val="000000"/>
              </a:solidFill>
              <a:latin typeface="NewsGoth B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762120" y="739800"/>
            <a:ext cx="892152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739800"/>
            <a:ext cx="892152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1" lang="en-US" sz="2800" spc="-1" strike="noStrike">
              <a:solidFill>
                <a:srgbClr val="000000"/>
              </a:solidFill>
              <a:latin typeface="NewsGoth B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1604520"/>
            <a:ext cx="45183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59240" y="1604520"/>
            <a:ext cx="45183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3682080"/>
            <a:ext cx="45183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739800"/>
            <a:ext cx="892152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1" lang="en-US" sz="2800" spc="-1" strike="noStrike">
              <a:solidFill>
                <a:srgbClr val="000000"/>
              </a:solidFill>
              <a:latin typeface="NewsGoth B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1604520"/>
            <a:ext cx="45183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59240" y="1604520"/>
            <a:ext cx="45183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259240" y="3682080"/>
            <a:ext cx="45183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62120" y="739800"/>
            <a:ext cx="892152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1" lang="en-US" sz="2800" spc="-1" strike="noStrike">
              <a:solidFill>
                <a:srgbClr val="000000"/>
              </a:solidFill>
              <a:latin typeface="NewsGoth B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14440" y="1604520"/>
            <a:ext cx="45183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59240" y="1604520"/>
            <a:ext cx="45183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14440" y="3682080"/>
            <a:ext cx="92595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b4ca"/>
            </a:gs>
            <a:gs pos="50000">
              <a:srgbClr val="ccffff"/>
            </a:gs>
            <a:gs pos="100000">
              <a:srgbClr val="76b4c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739800"/>
            <a:ext cx="892152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NewsGoth BT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NewsGoth BT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69228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46000" y="758880"/>
            <a:ext cx="9436320" cy="1238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933480" y="6060960"/>
            <a:ext cx="399960" cy="415800"/>
            <a:chOff x="933480" y="6060960"/>
            <a:chExt cx="399960" cy="415800"/>
          </a:xfrm>
        </p:grpSpPr>
        <p:sp>
          <p:nvSpPr>
            <p:cNvPr id="4" name=""/>
            <p:cNvSpPr/>
            <p:nvPr/>
          </p:nvSpPr>
          <p:spPr>
            <a:xfrm>
              <a:off x="933480" y="6278400"/>
              <a:ext cx="188280" cy="19836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0" y="0"/>
                  </a:moveTo>
                  <a:lnTo>
                    <a:pt x="96" y="96"/>
                  </a:lnTo>
                  <a:lnTo>
                    <a:pt x="0" y="9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936000" y="6063480"/>
              <a:ext cx="391680" cy="408240"/>
            </a:xfrm>
            <a:custGeom>
              <a:avLst/>
              <a:gdLst/>
              <a:ahLst/>
              <a:rect l="l" t="t" r="r" b="b"/>
              <a:pathLst>
                <a:path w="300" h="304">
                  <a:moveTo>
                    <a:pt x="0" y="0"/>
                  </a:moveTo>
                  <a:lnTo>
                    <a:pt x="0" y="124"/>
                  </a:lnTo>
                  <a:lnTo>
                    <a:pt x="182" y="304"/>
                  </a:lnTo>
                  <a:lnTo>
                    <a:pt x="300" y="30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980280" y="6060960"/>
              <a:ext cx="353160" cy="279360"/>
            </a:xfrm>
            <a:custGeom>
              <a:avLst/>
              <a:gdLst/>
              <a:ahLst/>
              <a:rect l="l" t="t" r="r" b="b"/>
              <a:pathLst>
                <a:path w="270" h="208">
                  <a:moveTo>
                    <a:pt x="0" y="0"/>
                  </a:moveTo>
                  <a:lnTo>
                    <a:pt x="122" y="0"/>
                  </a:lnTo>
                  <a:lnTo>
                    <a:pt x="270" y="148"/>
                  </a:lnTo>
                  <a:lnTo>
                    <a:pt x="210" y="20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" name=""/>
          <p:cNvSpPr/>
          <p:nvPr/>
        </p:nvSpPr>
        <p:spPr>
          <a:xfrm>
            <a:off x="1285920" y="6273720"/>
            <a:ext cx="8962920" cy="190440"/>
          </a:xfrm>
          <a:custGeom>
            <a:avLst/>
            <a:gdLst/>
            <a:ahLst/>
            <a:rect l="l" t="t" r="r" b="b"/>
            <a:pathLst>
              <a:path w="5646" h="120">
                <a:moveTo>
                  <a:pt x="66" y="0"/>
                </a:moveTo>
                <a:lnTo>
                  <a:pt x="0" y="58"/>
                </a:lnTo>
                <a:lnTo>
                  <a:pt x="66" y="120"/>
                </a:lnTo>
                <a:lnTo>
                  <a:pt x="5646" y="120"/>
                </a:lnTo>
                <a:lnTo>
                  <a:pt x="5646" y="0"/>
                </a:lnTo>
                <a:lnTo>
                  <a:pt x="66" y="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6264360"/>
            <a:ext cx="885960" cy="2030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9347400" y="6470640"/>
            <a:ext cx="1054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75C5A-9B3D-4D55-B3C1-688141FAFBEC}" type="slidenum">
              <a:rPr b="0" lang="en-US" sz="1400" spc="-1" strike="noStrike">
                <a:solidFill>
                  <a:srgbClr val="ffffff"/>
                </a:solidFill>
                <a:latin typeface="NewsGoth B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" descr=""/>
          <p:cNvPicPr/>
          <p:nvPr/>
        </p:nvPicPr>
        <p:blipFill>
          <a:blip r:embed="rId2"/>
          <a:stretch/>
        </p:blipFill>
        <p:spPr>
          <a:xfrm>
            <a:off x="803160" y="250920"/>
            <a:ext cx="1935360" cy="307800"/>
          </a:xfrm>
          <a:prstGeom prst="rect">
            <a:avLst/>
          </a:prstGeom>
          <a:ln w="0">
            <a:noFill/>
          </a:ln>
        </p:spPr>
      </p:pic>
      <p:pic>
        <p:nvPicPr>
          <p:cNvPr id="11" name="" descr=""/>
          <p:cNvPicPr/>
          <p:nvPr/>
        </p:nvPicPr>
        <p:blipFill>
          <a:blip r:embed="rId3"/>
          <a:stretch/>
        </p:blipFill>
        <p:spPr>
          <a:xfrm>
            <a:off x="866880" y="6502320"/>
            <a:ext cx="504720" cy="95400"/>
          </a:xfrm>
          <a:prstGeom prst="rect">
            <a:avLst/>
          </a:prstGeom>
          <a:ln w="0">
            <a:noFill/>
          </a:ln>
        </p:spPr>
      </p:pic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514440" y="1604520"/>
            <a:ext cx="92595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58880" indent="-2905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0000" indent="-235080"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3" marL="1635120" indent="-231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103480" indent="-23328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103480" indent="-23328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103480" indent="-23328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76b4ca"/>
            </a:gs>
            <a:gs pos="50000">
              <a:srgbClr val="ccffff"/>
            </a:gs>
            <a:gs pos="100000">
              <a:srgbClr val="76b4c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692280" cy="68580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933480" y="6060960"/>
            <a:ext cx="399960" cy="415800"/>
            <a:chOff x="933480" y="6060960"/>
            <a:chExt cx="399960" cy="415800"/>
          </a:xfrm>
        </p:grpSpPr>
        <p:sp>
          <p:nvSpPr>
            <p:cNvPr id="51" name=""/>
            <p:cNvSpPr/>
            <p:nvPr/>
          </p:nvSpPr>
          <p:spPr>
            <a:xfrm>
              <a:off x="933480" y="6278400"/>
              <a:ext cx="188280" cy="19836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0" y="0"/>
                  </a:moveTo>
                  <a:lnTo>
                    <a:pt x="96" y="96"/>
                  </a:lnTo>
                  <a:lnTo>
                    <a:pt x="0" y="9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936000" y="6063480"/>
              <a:ext cx="391680" cy="408240"/>
            </a:xfrm>
            <a:custGeom>
              <a:avLst/>
              <a:gdLst/>
              <a:ahLst/>
              <a:rect l="l" t="t" r="r" b="b"/>
              <a:pathLst>
                <a:path w="300" h="304">
                  <a:moveTo>
                    <a:pt x="0" y="0"/>
                  </a:moveTo>
                  <a:lnTo>
                    <a:pt x="0" y="124"/>
                  </a:lnTo>
                  <a:lnTo>
                    <a:pt x="182" y="304"/>
                  </a:lnTo>
                  <a:lnTo>
                    <a:pt x="300" y="30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980280" y="6060960"/>
              <a:ext cx="353160" cy="279360"/>
            </a:xfrm>
            <a:custGeom>
              <a:avLst/>
              <a:gdLst/>
              <a:ahLst/>
              <a:rect l="l" t="t" r="r" b="b"/>
              <a:pathLst>
                <a:path w="270" h="208">
                  <a:moveTo>
                    <a:pt x="0" y="0"/>
                  </a:moveTo>
                  <a:lnTo>
                    <a:pt x="122" y="0"/>
                  </a:lnTo>
                  <a:lnTo>
                    <a:pt x="270" y="148"/>
                  </a:lnTo>
                  <a:lnTo>
                    <a:pt x="210" y="20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0" y="6264360"/>
            <a:ext cx="885960" cy="2030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285920" y="6273720"/>
            <a:ext cx="8962920" cy="190440"/>
          </a:xfrm>
          <a:custGeom>
            <a:avLst/>
            <a:gdLst/>
            <a:ahLst/>
            <a:rect l="l" t="t" r="r" b="b"/>
            <a:pathLst>
              <a:path w="5646" h="120">
                <a:moveTo>
                  <a:pt x="66" y="0"/>
                </a:moveTo>
                <a:lnTo>
                  <a:pt x="0" y="58"/>
                </a:lnTo>
                <a:lnTo>
                  <a:pt x="66" y="120"/>
                </a:lnTo>
                <a:lnTo>
                  <a:pt x="5646" y="120"/>
                </a:lnTo>
                <a:lnTo>
                  <a:pt x="5646" y="0"/>
                </a:lnTo>
                <a:lnTo>
                  <a:pt x="66" y="0"/>
                </a:lnTo>
                <a:close/>
              </a:path>
            </a:pathLst>
          </a:cu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2298600" y="1346040"/>
            <a:ext cx="1214640" cy="1190880"/>
            <a:chOff x="2298600" y="1346040"/>
            <a:chExt cx="1214640" cy="1190880"/>
          </a:xfrm>
        </p:grpSpPr>
        <p:sp>
          <p:nvSpPr>
            <p:cNvPr id="57" name=""/>
            <p:cNvSpPr/>
            <p:nvPr/>
          </p:nvSpPr>
          <p:spPr>
            <a:xfrm>
              <a:off x="2417760" y="1346040"/>
              <a:ext cx="1095480" cy="836640"/>
            </a:xfrm>
            <a:custGeom>
              <a:avLst/>
              <a:gdLst/>
              <a:ahLst/>
              <a:rect l="l" t="t" r="r" b="b"/>
              <a:pathLst>
                <a:path w="690" h="527">
                  <a:moveTo>
                    <a:pt x="0" y="0"/>
                  </a:moveTo>
                  <a:lnTo>
                    <a:pt x="311" y="0"/>
                  </a:lnTo>
                  <a:lnTo>
                    <a:pt x="690" y="377"/>
                  </a:lnTo>
                  <a:lnTo>
                    <a:pt x="542" y="5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417760" y="1346040"/>
              <a:ext cx="1095480" cy="836640"/>
            </a:xfrm>
            <a:custGeom>
              <a:avLst/>
              <a:gdLst/>
              <a:ahLst/>
              <a:rect l="l" t="t" r="r" b="b"/>
              <a:pathLst>
                <a:path w="690" h="527">
                  <a:moveTo>
                    <a:pt x="0" y="0"/>
                  </a:moveTo>
                  <a:lnTo>
                    <a:pt x="311" y="0"/>
                  </a:lnTo>
                  <a:lnTo>
                    <a:pt x="690" y="377"/>
                  </a:lnTo>
                  <a:lnTo>
                    <a:pt x="542" y="527"/>
                  </a:ln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98600" y="1346040"/>
              <a:ext cx="1214640" cy="1190880"/>
            </a:xfrm>
            <a:custGeom>
              <a:avLst/>
              <a:gdLst/>
              <a:ahLst/>
              <a:rect l="l" t="t" r="r" b="b"/>
              <a:pathLst>
                <a:path w="765" h="750">
                  <a:moveTo>
                    <a:pt x="0" y="0"/>
                  </a:moveTo>
                  <a:lnTo>
                    <a:pt x="765" y="750"/>
                  </a:lnTo>
                  <a:lnTo>
                    <a:pt x="474" y="750"/>
                  </a:lnTo>
                  <a:lnTo>
                    <a:pt x="0" y="2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301840" y="1927080"/>
              <a:ext cx="625680" cy="609840"/>
            </a:xfrm>
            <a:custGeom>
              <a:avLst/>
              <a:gdLst/>
              <a:ahLst/>
              <a:rect l="l" t="t" r="r" b="b"/>
              <a:pathLst>
                <a:path w="394" h="384">
                  <a:moveTo>
                    <a:pt x="0" y="0"/>
                  </a:moveTo>
                  <a:lnTo>
                    <a:pt x="394" y="384"/>
                  </a:lnTo>
                  <a:lnTo>
                    <a:pt x="0" y="3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846600" y="1914480"/>
            <a:ext cx="4327560" cy="6238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9288720" y="6470640"/>
            <a:ext cx="1054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650ED-A087-43DA-B3AC-3A4BF87C5D3E}" type="slidenum">
              <a:rPr b="0" lang="en-US" sz="1400" spc="-1" strike="noStrike">
                <a:solidFill>
                  <a:srgbClr val="ffffff"/>
                </a:solidFill>
                <a:latin typeface="NewsGoth B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469680" y="5678640"/>
            <a:ext cx="407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NewsGoth BT"/>
              </a:rPr>
              <a:t>Milan, 28 September</a:t>
            </a:r>
            <a:r>
              <a:rPr b="1" lang="it-IT" sz="2400" spc="-1" strike="noStrike">
                <a:solidFill>
                  <a:srgbClr val="000000"/>
                </a:solidFill>
                <a:latin typeface="NewsGoth BT"/>
              </a:rPr>
              <a:t>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41360" y="3516480"/>
            <a:ext cx="4649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NewsGoth BT"/>
              </a:rPr>
              <a:t>Business on trac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NewsGoth BT"/>
              </a:rPr>
              <a:t>Pipeline fills 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866880" y="6502320"/>
            <a:ext cx="504720" cy="95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b4ca"/>
            </a:gs>
            <a:gs pos="50000">
              <a:srgbClr val="ccffff"/>
            </a:gs>
            <a:gs pos="100000">
              <a:srgbClr val="76b4c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8051760" y="2347920"/>
            <a:ext cx="1636920" cy="3619440"/>
          </a:xfrm>
          <a:prstGeom prst="rect">
            <a:avLst/>
          </a:prstGeom>
          <a:gradFill rotWithShape="0">
            <a:gsLst>
              <a:gs pos="0">
                <a:srgbClr val="b0b0b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548240" y="2311560"/>
            <a:ext cx="1108080" cy="3625560"/>
          </a:xfrm>
          <a:prstGeom prst="rect">
            <a:avLst/>
          </a:prstGeom>
          <a:gradFill rotWithShape="0">
            <a:gsLst>
              <a:gs pos="0">
                <a:srgbClr val="77aec9"/>
              </a:gs>
              <a:gs pos="100000">
                <a:srgbClr val="cc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698000" y="2408400"/>
            <a:ext cx="76896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NewsGoth BT"/>
              </a:rPr>
              <a:t>13.9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554360" y="5338800"/>
            <a:ext cx="111456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NewsGoth BT"/>
              </a:rPr>
              <a:t>35.9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794200" y="2317680"/>
            <a:ext cx="1106640" cy="3632400"/>
          </a:xfrm>
          <a:prstGeom prst="rect">
            <a:avLst/>
          </a:prstGeom>
          <a:gradFill rotWithShape="0">
            <a:gsLst>
              <a:gs pos="0">
                <a:srgbClr val="77aec9"/>
              </a:gs>
              <a:gs pos="100000">
                <a:srgbClr val="cc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763560" y="912600"/>
            <a:ext cx="9523440" cy="49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NewsGoth BT"/>
              </a:rPr>
              <a:t>SOURCES OF GROWTH</a:t>
            </a:r>
            <a:endParaRPr b="1" lang="en-US" sz="3000" spc="-1" strike="noStrike">
              <a:solidFill>
                <a:srgbClr val="000000"/>
              </a:solidFill>
              <a:latin typeface="NewsGoth BT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907920" y="5948280"/>
            <a:ext cx="8764560" cy="129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872280" y="2352600"/>
            <a:ext cx="23083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NewsGoth BT"/>
              </a:rPr>
              <a:t>Pharmaceutic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953280" y="5281560"/>
            <a:ext cx="184500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NewsGoth BT"/>
              </a:rPr>
              <a:t>Total Grow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991840" y="2408400"/>
            <a:ext cx="65304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NewsGoth BT"/>
              </a:rPr>
              <a:t>1.0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896760" y="1447920"/>
            <a:ext cx="938556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911160" y="4384800"/>
            <a:ext cx="8793360" cy="74520"/>
          </a:xfrm>
          <a:custGeom>
            <a:avLst/>
            <a:gdLst/>
            <a:ahLst/>
            <a:rect l="l" t="t" r="r" b="b"/>
            <a:pathLst>
              <a:path w="5639" h="1">
                <a:moveTo>
                  <a:pt x="0" y="0"/>
                </a:moveTo>
                <a:lnTo>
                  <a:pt x="5639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995080" y="5338800"/>
            <a:ext cx="65304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NewsGoth BT"/>
              </a:rPr>
              <a:t>0.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33400" y="1554120"/>
            <a:ext cx="9267840" cy="708120"/>
          </a:xfrm>
          <a:prstGeom prst="rect">
            <a:avLst/>
          </a:prstGeom>
          <a:gradFill rotWithShape="0">
            <a:gsLst>
              <a:gs pos="0">
                <a:srgbClr val="77aec9"/>
              </a:gs>
              <a:gs pos="50000">
                <a:srgbClr val="ccffff"/>
              </a:gs>
              <a:gs pos="100000">
                <a:srgbClr val="77aec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403880" y="1454040"/>
            <a:ext cx="2880" cy="4498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994440" y="1441440"/>
            <a:ext cx="1800" cy="4514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8372520" y="1730520"/>
            <a:ext cx="93492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NewsGoth BT"/>
              </a:rPr>
              <a:t>To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351640" y="5313240"/>
            <a:ext cx="103572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NewsGoth BT"/>
              </a:rPr>
              <a:t>+ 36.4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8298000" y="3668760"/>
            <a:ext cx="11430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NewsGoth BT"/>
              </a:rPr>
              <a:t>+ 11.1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930240" y="1866960"/>
            <a:ext cx="362268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NewsGoth BT"/>
              </a:rPr>
              <a:t>(% change, H1 2001 over H1 200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627520" y="1581120"/>
            <a:ext cx="14162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NewsGoth BT"/>
              </a:rPr>
              <a:t>Price 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NewsGoth BT"/>
              </a:rPr>
              <a:t>Exch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702680" y="4570560"/>
            <a:ext cx="76896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NewsGoth BT"/>
              </a:rPr>
              <a:t>25.3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8351640" y="4510080"/>
            <a:ext cx="103572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NewsGoth BT"/>
              </a:rPr>
              <a:t>+ 25.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9800" y="3017880"/>
            <a:ext cx="35442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NewsGoth BT"/>
              </a:rPr>
              <a:t>Pharmaceutical Chemic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849600" y="3711600"/>
            <a:ext cx="29559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NewsGoth BT"/>
              </a:rPr>
              <a:t>Organic Growth, to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758480" y="3065400"/>
            <a:ext cx="65304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NewsGoth BT"/>
              </a:rPr>
              <a:t>2.1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924880" y="3071880"/>
            <a:ext cx="71856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NewsGoth BT"/>
              </a:rPr>
              <a:t>-0.6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691520" y="3732120"/>
            <a:ext cx="76896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NewsGoth BT"/>
              </a:rPr>
              <a:t>10.6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7680" y="3738600"/>
            <a:ext cx="65304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NewsGoth BT"/>
              </a:rPr>
              <a:t>0.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939960" y="4506840"/>
            <a:ext cx="173664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NewsGoth BT"/>
              </a:rPr>
              <a:t>Acquis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917640" y="5083200"/>
            <a:ext cx="878832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8147160" y="2382840"/>
            <a:ext cx="129384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NewsGoth BT"/>
              </a:rPr>
              <a:t>+ 14.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8267760" y="3046320"/>
            <a:ext cx="117324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NewsGoth BT"/>
              </a:rPr>
              <a:t>+ 1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438800" y="1720800"/>
            <a:ext cx="124920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NewsGoth BT"/>
              </a:rPr>
              <a:t>Volu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b4ca"/>
            </a:gs>
            <a:gs pos="50000">
              <a:srgbClr val="ccffff"/>
            </a:gs>
            <a:gs pos="100000">
              <a:srgbClr val="76b4c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8226360" y="2347920"/>
            <a:ext cx="1636920" cy="361944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748040" y="2332080"/>
            <a:ext cx="1352880" cy="3622680"/>
          </a:xfrm>
          <a:prstGeom prst="rect">
            <a:avLst/>
          </a:prstGeom>
          <a:gradFill rotWithShape="0">
            <a:gsLst>
              <a:gs pos="0">
                <a:srgbClr val="77aec9"/>
              </a:gs>
              <a:gs pos="100000">
                <a:srgbClr val="cc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968000" y="2378160"/>
            <a:ext cx="752400" cy="5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NewsGoth BT"/>
              </a:rPr>
              <a:t>17.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ewsGoth BT"/>
              </a:rPr>
              <a:t>15.3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678200" y="5442120"/>
            <a:ext cx="1327320" cy="5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NewsGoth BT"/>
              </a:rPr>
              <a:t>18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ewsGoth BT"/>
              </a:rPr>
              <a:t>12.0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451560" y="2333520"/>
            <a:ext cx="1428840" cy="3622680"/>
          </a:xfrm>
          <a:prstGeom prst="rect">
            <a:avLst/>
          </a:prstGeom>
          <a:gradFill rotWithShape="0">
            <a:gsLst>
              <a:gs pos="0">
                <a:srgbClr val="77aec9"/>
              </a:gs>
              <a:gs pos="100000">
                <a:srgbClr val="cc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63560" y="912600"/>
            <a:ext cx="9523440" cy="49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NewsGoth BT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NewsGoth BT"/>
              </a:rPr>
              <a:t>EBITDA BY BUSINESS AREA</a:t>
            </a:r>
            <a:endParaRPr b="1" lang="en-US" sz="3000" spc="-1" strike="noStrike">
              <a:solidFill>
                <a:srgbClr val="000000"/>
              </a:solidFill>
              <a:latin typeface="NewsGoth BT"/>
            </a:endParaRPr>
          </a:p>
        </p:txBody>
      </p:sp>
      <p:sp>
        <p:nvSpPr>
          <p:cNvPr id="273" name=""/>
          <p:cNvSpPr/>
          <p:nvPr/>
        </p:nvSpPr>
        <p:spPr>
          <a:xfrm>
            <a:off x="895320" y="5950080"/>
            <a:ext cx="8977320" cy="126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873360" y="2332080"/>
            <a:ext cx="2511000" cy="5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NewsGoth BT"/>
              </a:rPr>
              <a:t>Pharmaceutical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ewsGoth BT"/>
              </a:rPr>
              <a:t>as % of s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835560" y="5413320"/>
            <a:ext cx="1389240" cy="5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NewsGoth BT"/>
              </a:rPr>
              <a:t>EBI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ewsGoth BT"/>
              </a:rPr>
              <a:t>as % of s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731640" y="2378160"/>
            <a:ext cx="752400" cy="5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NewsGoth BT"/>
              </a:rPr>
              <a:t>35.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ewsGoth BT"/>
              </a:rPr>
              <a:t>21.3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896760" y="1447920"/>
            <a:ext cx="938556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911160" y="4384800"/>
            <a:ext cx="89521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28760" y="5445000"/>
            <a:ext cx="752400" cy="5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NewsGoth BT"/>
              </a:rPr>
              <a:t>31.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ewsGoth BT"/>
              </a:rPr>
              <a:t>14.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06400" y="1828800"/>
            <a:ext cx="9468000" cy="495360"/>
          </a:xfrm>
          <a:prstGeom prst="rect">
            <a:avLst/>
          </a:prstGeom>
          <a:gradFill rotWithShape="0">
            <a:gsLst>
              <a:gs pos="0">
                <a:srgbClr val="77aec9"/>
              </a:gs>
              <a:gs pos="50000">
                <a:srgbClr val="ccffff"/>
              </a:gs>
              <a:gs pos="100000">
                <a:srgbClr val="77aec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589640" y="1442880"/>
            <a:ext cx="0" cy="4510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8045280" y="1457280"/>
            <a:ext cx="5040" cy="450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8294040" y="1900080"/>
            <a:ext cx="150336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NewsGoth BT"/>
              </a:rPr>
              <a:t>Change</a:t>
            </a:r>
            <a:r>
              <a:rPr b="1" lang="en-US" sz="2000" spc="-1" strike="noStrike">
                <a:solidFill>
                  <a:srgbClr val="ffff00"/>
                </a:solidFill>
                <a:latin typeface="NewsGoth BT"/>
              </a:rPr>
              <a:t> </a:t>
            </a:r>
            <a:r>
              <a:rPr b="1" lang="en-US" sz="2000" spc="-1" strike="noStrike">
                <a:solidFill>
                  <a:srgbClr val="ff3300"/>
                </a:solidFill>
                <a:latin typeface="NewsGoth BT"/>
              </a:rPr>
              <a:t>%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8527680" y="5548320"/>
            <a:ext cx="103572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NewsGoth BT"/>
              </a:rPr>
              <a:t>+ 64.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8474040" y="3854520"/>
            <a:ext cx="11430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NewsGoth BT"/>
              </a:rPr>
              <a:t>+ 68.2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930240" y="1866960"/>
            <a:ext cx="23623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sGoth BT"/>
              </a:rPr>
              <a:t>(million eur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359160" y="6005520"/>
            <a:ext cx="315612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NewsGoth BT"/>
              </a:rPr>
              <a:t>* Including inter-company sa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394320" y="1900080"/>
            <a:ext cx="141624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NewsGoth BT"/>
              </a:rPr>
              <a:t>H1 2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106960" y="4524480"/>
            <a:ext cx="47016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NewsGoth BT"/>
              </a:rPr>
              <a:t>7.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867360" y="4524480"/>
            <a:ext cx="47016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NewsGoth BT"/>
              </a:rPr>
              <a:t>9.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8529480" y="4511520"/>
            <a:ext cx="103572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NewsGoth BT"/>
              </a:rPr>
              <a:t>+ 19.2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831960" y="2997360"/>
            <a:ext cx="3867120" cy="5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NewsGoth BT"/>
              </a:rPr>
              <a:t>Pharmaceutical Chemical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ewsGoth BT"/>
              </a:rPr>
              <a:t>as % of sales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942120" y="3691080"/>
            <a:ext cx="1389240" cy="5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NewsGoth BT"/>
              </a:rPr>
              <a:t>Tot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ewsGoth BT"/>
              </a:rPr>
              <a:t>as % of s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969800" y="3065400"/>
            <a:ext cx="752400" cy="5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NewsGoth BT"/>
              </a:rPr>
              <a:t>1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ewsGoth BT"/>
              </a:rPr>
              <a:t>22.4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730200" y="3063960"/>
            <a:ext cx="752400" cy="5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NewsGoth BT"/>
              </a:rPr>
              <a:t>11.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ewsGoth BT"/>
              </a:rPr>
              <a:t>22.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969800" y="3762360"/>
            <a:ext cx="752400" cy="5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NewsGoth BT"/>
              </a:rPr>
              <a:t>28.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ewsGoth BT"/>
              </a:rPr>
              <a:t>17.9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730200" y="3762360"/>
            <a:ext cx="752400" cy="5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NewsGoth BT"/>
              </a:rPr>
              <a:t>47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ewsGoth BT"/>
              </a:rPr>
              <a:t>22.0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33320" y="4486320"/>
            <a:ext cx="3446640" cy="3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NewsGoth BT"/>
              </a:rPr>
              <a:t>Operating depreci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38720" y="4908600"/>
            <a:ext cx="3285000" cy="3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NewsGoth BT"/>
              </a:rPr>
              <a:t>Goodwill amortiza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928800" y="5365800"/>
            <a:ext cx="8932680" cy="126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867360" y="4928760"/>
            <a:ext cx="47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NewsGoth BT"/>
              </a:rPr>
              <a:t>6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106960" y="4928760"/>
            <a:ext cx="47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NewsGoth BT"/>
              </a:rPr>
              <a:t>1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397720" y="2468520"/>
            <a:ext cx="129384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NewsGoth BT"/>
              </a:rPr>
              <a:t>+ 108.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458200" y="3156120"/>
            <a:ext cx="117324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NewsGoth BT"/>
              </a:rPr>
              <a:t>+ 3.7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8462160" y="4933800"/>
            <a:ext cx="116676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NewsGoth BT"/>
              </a:rPr>
              <a:t>+ 416.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718160" y="1901880"/>
            <a:ext cx="124920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NewsGoth BT"/>
              </a:rPr>
              <a:t>H1 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b4ca"/>
            </a:gs>
            <a:gs pos="50000">
              <a:srgbClr val="ccffff"/>
            </a:gs>
            <a:gs pos="100000">
              <a:srgbClr val="76b4c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7061040" y="1581120"/>
            <a:ext cx="2471760" cy="4411800"/>
          </a:xfrm>
          <a:prstGeom prst="rect">
            <a:avLst/>
          </a:prstGeom>
          <a:gradFill rotWithShape="0">
            <a:gsLst>
              <a:gs pos="0">
                <a:srgbClr val="77aec9"/>
              </a:gs>
              <a:gs pos="100000">
                <a:srgbClr val="cc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cc00"/>
              </a:buClr>
              <a:buSzPct val="120000"/>
              <a:buFont typeface="CommonBullet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202280" y="1581120"/>
            <a:ext cx="2528640" cy="4413240"/>
          </a:xfrm>
          <a:prstGeom prst="rect">
            <a:avLst/>
          </a:prstGeom>
          <a:gradFill rotWithShape="0">
            <a:gsLst>
              <a:gs pos="0">
                <a:srgbClr val="77aec9"/>
              </a:gs>
              <a:gs pos="100000">
                <a:srgbClr val="cc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951800" y="15778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NewsGoth BT"/>
              </a:rPr>
              <a:t>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NewsGoth BT"/>
              </a:rPr>
              <a:t>31 D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123520" y="2301840"/>
            <a:ext cx="69264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sGoth BT"/>
              </a:rPr>
              <a:t>94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051160" y="2778120"/>
            <a:ext cx="8391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sGoth BT"/>
              </a:rPr>
              <a:t>194.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036760" y="3295800"/>
            <a:ext cx="86652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sGoth BT"/>
              </a:rPr>
              <a:t>(22.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051160" y="3797280"/>
            <a:ext cx="83916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NewsGoth BT"/>
              </a:rPr>
              <a:t>266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051160" y="4311720"/>
            <a:ext cx="83916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sGoth BT"/>
              </a:rPr>
              <a:t>129.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051160" y="4705200"/>
            <a:ext cx="83916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sGoth BT"/>
              </a:rPr>
              <a:t>137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051160" y="5183280"/>
            <a:ext cx="83916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NewsGoth BT"/>
              </a:rPr>
              <a:t>266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791640" y="804600"/>
            <a:ext cx="892188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NewsGoth BT"/>
              </a:rPr>
              <a:t>CAPITAL EMPLOYED</a:t>
            </a:r>
            <a:endParaRPr b="1" lang="en-US" sz="3000" spc="-1" strike="noStrike">
              <a:solidFill>
                <a:srgbClr val="000000"/>
              </a:solidFill>
              <a:latin typeface="NewsGoth BT"/>
            </a:endParaRPr>
          </a:p>
        </p:txBody>
      </p:sp>
      <p:sp>
        <p:nvSpPr>
          <p:cNvPr id="318" name=""/>
          <p:cNvSpPr/>
          <p:nvPr/>
        </p:nvSpPr>
        <p:spPr>
          <a:xfrm>
            <a:off x="1000800" y="2201760"/>
            <a:ext cx="256104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NewsGoth BT"/>
              </a:rPr>
              <a:t>Net Working Capit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NewsGoth BT"/>
              </a:rPr>
              <a:t>for 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884160" y="1490760"/>
            <a:ext cx="93852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005480" y="2808360"/>
            <a:ext cx="286920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NewsGoth BT"/>
              </a:rPr>
              <a:t>Net Non-current Ass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029240" y="3173400"/>
            <a:ext cx="297432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NewsGoth BT"/>
              </a:rPr>
              <a:t>Reserves for Long - te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NewsGoth BT"/>
              </a:rPr>
              <a:t>Liabil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114560" y="5073480"/>
            <a:ext cx="243468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NewsGoth BT"/>
              </a:rPr>
              <a:t>FINANCING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NewsGoth BT"/>
              </a:rPr>
              <a:t>CAPITAL EMPLOY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028880" y="4322880"/>
            <a:ext cx="12096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NewsGoth BT"/>
              </a:rPr>
              <a:t>Net Deb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042200" y="4710240"/>
            <a:ext cx="252936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NewsGoth BT"/>
              </a:rPr>
              <a:t>Shareholders’ Equ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876240" y="2197080"/>
            <a:ext cx="864864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876240" y="4618080"/>
            <a:ext cx="866448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876240" y="3689280"/>
            <a:ext cx="8648640" cy="126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888840" y="5584680"/>
            <a:ext cx="865188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888840" y="5048280"/>
            <a:ext cx="8653680" cy="126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828720" y="4133880"/>
            <a:ext cx="8693280" cy="158760"/>
          </a:xfrm>
          <a:prstGeom prst="rect">
            <a:avLst/>
          </a:prstGeom>
          <a:solidFill>
            <a:srgbClr val="77ae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114560" y="3816360"/>
            <a:ext cx="243468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NewsGoth BT"/>
              </a:rPr>
              <a:t>CAPITAL EMPLOY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876240" y="2731680"/>
            <a:ext cx="8648640" cy="1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V="1">
            <a:off x="888840" y="3191040"/>
            <a:ext cx="863604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100160" y="1681200"/>
            <a:ext cx="23623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sGoth BT"/>
              </a:rPr>
              <a:t>(million eur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960320" y="2301840"/>
            <a:ext cx="69264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sGoth BT"/>
              </a:rPr>
              <a:t>96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902000" y="2771640"/>
            <a:ext cx="8391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sGoth BT"/>
              </a:rPr>
              <a:t>192.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886160" y="3289320"/>
            <a:ext cx="86652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sGoth BT"/>
              </a:rPr>
              <a:t>(28.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889400" y="3790800"/>
            <a:ext cx="83916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NewsGoth BT"/>
              </a:rPr>
              <a:t>260.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7960320" y="4305240"/>
            <a:ext cx="69264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sGoth BT"/>
              </a:rPr>
              <a:t>68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875360" y="4711680"/>
            <a:ext cx="83916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sGoth BT"/>
              </a:rPr>
              <a:t>192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887960" y="5181480"/>
            <a:ext cx="83916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NewsGoth BT"/>
              </a:rPr>
              <a:t>260.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782840" y="1593720"/>
            <a:ext cx="1022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NewsGoth BT"/>
              </a:rPr>
              <a:t>2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NewsGoth BT"/>
              </a:rPr>
              <a:t>30 JU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000080" y="5668920"/>
            <a:ext cx="334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NewsGoth BT"/>
              </a:rPr>
              <a:t>NET DEBT / EQUITY RAT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927680" y="5600880"/>
            <a:ext cx="105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sGoth BT"/>
              </a:rPr>
              <a:t>0.9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594560" y="5600880"/>
            <a:ext cx="113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buClr>
                <a:srgbClr val="ffcc00"/>
              </a:buClr>
              <a:buSzPct val="120000"/>
              <a:buFont typeface="CommonBulle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sGoth BT"/>
              </a:rPr>
              <a:t>0.3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b4ca"/>
            </a:gs>
            <a:gs pos="50000">
              <a:srgbClr val="ccffff"/>
            </a:gs>
            <a:gs pos="100000">
              <a:srgbClr val="76b4c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762120" y="898560"/>
            <a:ext cx="952488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NewsGoth BT"/>
              </a:rPr>
              <a:t>ZANIDIP</a:t>
            </a:r>
            <a:r>
              <a:rPr b="1" lang="en-US" sz="3000" spc="-1" strike="noStrike" baseline="30000">
                <a:solidFill>
                  <a:srgbClr val="000000"/>
                </a:solidFill>
                <a:latin typeface="NewsGoth BT"/>
              </a:rPr>
              <a:t>®</a:t>
            </a:r>
            <a:r>
              <a:rPr b="1" lang="en-US" sz="3000" spc="-1" strike="noStrike">
                <a:solidFill>
                  <a:srgbClr val="000000"/>
                </a:solidFill>
                <a:latin typeface="NewsGoth BT"/>
              </a:rPr>
              <a:t> (LERCANIDIPINE)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NewsGoth BT"/>
              </a:rPr>
              <a:t>A COMPARATIVE PRODUCT PROFILE</a:t>
            </a:r>
            <a:endParaRPr b="1" lang="en-US" sz="3000" spc="-1" strike="noStrike">
              <a:solidFill>
                <a:srgbClr val="000000"/>
              </a:solidFill>
              <a:latin typeface="NewsGoth B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726920" y="2924280"/>
            <a:ext cx="8157960" cy="22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NewsGoth BT"/>
              <a:buChar char="•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NewsGoth BT"/>
              </a:rPr>
              <a:t>Latest generation calcium-channel blo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-3510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NewsGoth BT"/>
              <a:buChar char="•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NewsGoth BT"/>
              </a:rPr>
              <a:t>Natural once a da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-3510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NewsGoth BT"/>
              <a:buChar char="•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NewsGoth BT"/>
              </a:rPr>
              <a:t>Efficacy comparable to best competi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-3510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NewsGoth BT"/>
              <a:buChar char="•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NewsGoth BT"/>
              </a:rPr>
              <a:t>Excellent / superior tolerability and safety pro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39880" y="2035080"/>
            <a:ext cx="94424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b4ca"/>
            </a:gs>
            <a:gs pos="50000">
              <a:srgbClr val="ccffff"/>
            </a:gs>
            <a:gs pos="100000">
              <a:srgbClr val="76b4c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62120" y="898560"/>
            <a:ext cx="952488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NewsGoth BT"/>
              </a:rPr>
              <a:t>ZANIDIP</a:t>
            </a:r>
            <a:r>
              <a:rPr b="1" lang="en-US" sz="3000" spc="-1" strike="noStrike" baseline="30000">
                <a:solidFill>
                  <a:srgbClr val="000000"/>
                </a:solidFill>
                <a:latin typeface="NewsGoth BT"/>
              </a:rPr>
              <a:t>®</a:t>
            </a:r>
            <a:r>
              <a:rPr b="1" lang="en-US" sz="3000" spc="-1" strike="noStrike">
                <a:solidFill>
                  <a:srgbClr val="000000"/>
                </a:solidFill>
                <a:latin typeface="NewsGoth BT"/>
              </a:rPr>
              <a:t> (LERCANIDIPINE)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NewsGoth BT"/>
              </a:rPr>
              <a:t>THE REFERENCE MARKET</a:t>
            </a:r>
            <a:endParaRPr b="1" lang="en-US" sz="3000" spc="-1" strike="noStrike">
              <a:solidFill>
                <a:srgbClr val="000000"/>
              </a:solidFill>
              <a:latin typeface="NewsGoth B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221840" y="2479320"/>
            <a:ext cx="8494920" cy="317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NewsGoth BT"/>
              <a:buChar char="•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NewsGoth BT"/>
              </a:rPr>
              <a:t>Hypertension is the largest indication worldwide - over $30 b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-3510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NewsGoth BT"/>
              <a:buChar char="•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NewsGoth BT"/>
              </a:rPr>
              <a:t>Addressed by several classes of dru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-3510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NewsGoth BT"/>
              <a:buChar char="•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NewsGoth BT"/>
              </a:rPr>
              <a:t>CCBs are one of the largest, about $10 b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-3510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NewsGoth BT"/>
              <a:buChar char="•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NewsGoth BT"/>
              </a:rPr>
              <a:t>The leading brand is Norvasc</a:t>
            </a:r>
            <a:r>
              <a:rPr b="0" lang="en-US" sz="2400" spc="-1" strike="noStrike" baseline="30000">
                <a:solidFill>
                  <a:srgbClr val="000000"/>
                </a:solidFill>
                <a:latin typeface="NewsGoth BT"/>
              </a:rPr>
              <a:t>®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NewsGoth BT"/>
              </a:rPr>
              <a:t>(amlodipine), sold by Pfizer, about $3.4 bill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839880" y="2035080"/>
            <a:ext cx="94424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b4ca"/>
            </a:gs>
            <a:gs pos="50000">
              <a:srgbClr val="ccffff"/>
            </a:gs>
            <a:gs pos="100000">
              <a:srgbClr val="76b4c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762120" y="876240"/>
            <a:ext cx="952488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NewsGoth BT"/>
              </a:rPr>
              <a:t>ROLL OUT HISTORY</a:t>
            </a:r>
            <a:endParaRPr b="1" lang="en-US" sz="3000" spc="-1" strike="noStrike">
              <a:solidFill>
                <a:srgbClr val="000000"/>
              </a:solidFill>
              <a:latin typeface="NewsGoth BT"/>
            </a:endParaRPr>
          </a:p>
        </p:txBody>
      </p:sp>
      <p:sp>
        <p:nvSpPr>
          <p:cNvPr id="353" name=""/>
          <p:cNvSpPr/>
          <p:nvPr/>
        </p:nvSpPr>
        <p:spPr>
          <a:xfrm>
            <a:off x="819000" y="1820880"/>
            <a:ext cx="9282240" cy="819000"/>
          </a:xfrm>
          <a:prstGeom prst="rect">
            <a:avLst/>
          </a:prstGeom>
          <a:gradFill rotWithShape="0">
            <a:gsLst>
              <a:gs pos="0">
                <a:srgbClr val="77aec9"/>
              </a:gs>
              <a:gs pos="50000">
                <a:srgbClr val="ccffff"/>
              </a:gs>
              <a:gs pos="100000">
                <a:srgbClr val="77aec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360080" y="2097000"/>
            <a:ext cx="76608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NewsGoth BT"/>
              </a:rPr>
              <a:t>199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894960" y="2890800"/>
            <a:ext cx="1922760" cy="23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NewsGoth BT"/>
              </a:rPr>
              <a:t>AUST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NewsGoth BT"/>
              </a:rPr>
              <a:t>GREE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NewsGoth BT"/>
              </a:rPr>
              <a:t>ISRA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NewsGoth BT"/>
              </a:rPr>
              <a:t>ITA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NewsGoth BT"/>
              </a:rPr>
              <a:t>LUXEMBOUR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NewsGoth BT"/>
              </a:rPr>
              <a:t>NETHERLANDS</a:t>
            </a:r>
            <a:r>
              <a:rPr b="1" lang="en-US" sz="1800" spc="-1" strike="noStrike" baseline="30000">
                <a:solidFill>
                  <a:srgbClr val="000000"/>
                </a:solidFill>
                <a:latin typeface="NewsGoth BT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NewsGoth BT"/>
              </a:rPr>
              <a:t>SP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NewsGoth BT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508200" y="2097000"/>
            <a:ext cx="76608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NewsGoth BT"/>
              </a:rPr>
              <a:t>19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60960" y="2890800"/>
            <a:ext cx="13039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NewsGoth BT"/>
              </a:rPr>
              <a:t>BELGI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NewsGoth BT"/>
              </a:rPr>
              <a:t>BRAZI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NewsGoth BT"/>
              </a:rPr>
              <a:t>LEBAN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858960" y="1525680"/>
            <a:ext cx="93852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45720" y="2890800"/>
            <a:ext cx="1621080" cy="28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NewsGoth BT"/>
              </a:rPr>
              <a:t>CHIL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NewsGoth BT"/>
              </a:rPr>
              <a:t>CYPRU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NewsGoth BT"/>
              </a:rPr>
              <a:t>DENMA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NewsGoth BT"/>
              </a:rPr>
              <a:t>FINL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NewsGoth BT"/>
              </a:rPr>
              <a:t>GERMAN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NewsGoth BT"/>
              </a:rPr>
              <a:t>KOR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NewsGoth BT"/>
              </a:rPr>
              <a:t>KUWA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NewsGoth BT"/>
              </a:rPr>
              <a:t>NORW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NewsGoth BT"/>
              </a:rPr>
              <a:t>PAKIST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NewsGoth BT"/>
              </a:rPr>
              <a:t>PHILIPPI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NewsGoth BT"/>
              </a:rPr>
              <a:t>SWED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921040" y="1538280"/>
            <a:ext cx="0" cy="4251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951440" y="1538280"/>
            <a:ext cx="0" cy="4251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272360" y="1538280"/>
            <a:ext cx="0" cy="4251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679720" y="2097000"/>
            <a:ext cx="76608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NewsGoth BT"/>
              </a:rPr>
              <a:t>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119080" y="1968480"/>
            <a:ext cx="14382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NewsGoth BT"/>
              </a:rPr>
              <a:t>EXPEC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NewsGoth BT"/>
              </a:rPr>
              <a:t>2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8123760" y="2890800"/>
            <a:ext cx="1634760" cy="25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NewsGoth BT"/>
              </a:rPr>
              <a:t>ARGENT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NewsGoth BT"/>
              </a:rPr>
              <a:t>FR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NewsGoth BT"/>
              </a:rPr>
              <a:t>HONG KO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NewsGoth BT"/>
              </a:rPr>
              <a:t>VENEZUE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NewsGoth BT"/>
              </a:rPr>
              <a:t>ECUA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NewsGoth BT"/>
              </a:rPr>
              <a:t>HUNG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NewsGoth BT"/>
              </a:rPr>
              <a:t>AUSTRAL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NewsGoth BT"/>
              </a:rPr>
              <a:t>CH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NewsGoth BT"/>
              </a:rPr>
              <a:t>LITHUAN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NewsGoth BT"/>
              </a:rPr>
              <a:t>RUMAN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462680" y="5905440"/>
            <a:ext cx="115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NewsGoth BT"/>
              </a:rPr>
              <a:t>* Dec. 199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b4ca"/>
            </a:gs>
            <a:gs pos="50000">
              <a:srgbClr val="ccffff"/>
            </a:gs>
            <a:gs pos="100000">
              <a:srgbClr val="76b4c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3091320" y="979560"/>
            <a:ext cx="408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NewsGoth BT"/>
              </a:rPr>
              <a:t>LERCANIDIPINE S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8" name=""/>
          <p:cNvGraphicFramePr/>
          <p:nvPr/>
        </p:nvGraphicFramePr>
        <p:xfrm>
          <a:off x="2189160" y="1704960"/>
          <a:ext cx="6572160" cy="419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89160" y="1704960"/>
                    <a:ext cx="6572160" cy="41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2193840" y="553716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179800" y="5700600"/>
            <a:ext cx="914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092320" y="5830920"/>
            <a:ext cx="727200" cy="250920"/>
          </a:xfrm>
          <a:prstGeom prst="rect">
            <a:avLst/>
          </a:prstGeom>
          <a:gradFill rotWithShape="0">
            <a:gsLst>
              <a:gs pos="0">
                <a:srgbClr val="00a9a9"/>
              </a:gs>
              <a:gs pos="50000">
                <a:srgbClr val="00ffff"/>
              </a:gs>
              <a:gs pos="100000">
                <a:srgbClr val="00a9a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599000" y="5865840"/>
            <a:ext cx="727200" cy="250920"/>
          </a:xfrm>
          <a:prstGeom prst="rect">
            <a:avLst/>
          </a:prstGeom>
          <a:gradFill rotWithShape="0">
            <a:gsLst>
              <a:gs pos="0">
                <a:srgbClr val="0051a2"/>
              </a:gs>
              <a:gs pos="50000">
                <a:srgbClr val="0066cc"/>
              </a:gs>
              <a:gs pos="100000">
                <a:srgbClr val="0051a2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7684920" y="5853240"/>
            <a:ext cx="727200" cy="250560"/>
          </a:xfrm>
          <a:prstGeom prst="rect">
            <a:avLst/>
          </a:prstGeom>
          <a:gradFill rotWithShape="0">
            <a:gsLst>
              <a:gs pos="0">
                <a:srgbClr val="b72400"/>
              </a:gs>
              <a:gs pos="50000">
                <a:srgbClr val="ff3300"/>
              </a:gs>
              <a:gs pos="100000">
                <a:srgbClr val="b72400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875680" y="5803920"/>
            <a:ext cx="135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NewsGoth BT"/>
              </a:rPr>
              <a:t>Direct s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321520" y="5818320"/>
            <a:ext cx="194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NewsGoth BT"/>
              </a:rPr>
              <a:t>Sales to license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8489520" y="5802480"/>
            <a:ext cx="125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NewsGoth BT"/>
              </a:rPr>
              <a:t>Total s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59440" y="339264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NewsGoth BT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996360" y="4324320"/>
            <a:ext cx="43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NewsGoth BT"/>
              </a:rPr>
              <a:t>5.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580280" y="276552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NewsGoth BT"/>
              </a:rPr>
              <a:t>2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210720" y="324180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NewsGoth BT"/>
              </a:rPr>
              <a:t>15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888600" y="354492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NewsGoth BT"/>
              </a:rPr>
              <a:t>12.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7523640" y="184140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NewsGoth BT"/>
              </a:rPr>
              <a:t>2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879200" y="1496880"/>
            <a:ext cx="144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ewsGoth BT"/>
              </a:rPr>
              <a:t>(million euro</a:t>
            </a:r>
            <a:r>
              <a:rPr b="1" lang="it-IT" sz="1400" spc="-1" strike="noStrike">
                <a:solidFill>
                  <a:srgbClr val="000000"/>
                </a:solidFill>
                <a:latin typeface="NewsGoth BT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896760" y="1452600"/>
            <a:ext cx="938556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b4ca"/>
            </a:gs>
            <a:gs pos="50000">
              <a:srgbClr val="ccffff"/>
            </a:gs>
            <a:gs pos="100000">
              <a:srgbClr val="76b4c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5108400" y="113976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917640" y="1016640"/>
            <a:ext cx="9167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NewsGoth BT"/>
              </a:rPr>
              <a:t>LERCANIDIPINE IN ITALY - Market share as a % of all CCB’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8" name=""/>
          <p:cNvGraphicFramePr/>
          <p:nvPr/>
        </p:nvGraphicFramePr>
        <p:xfrm>
          <a:off x="1601640" y="1471680"/>
          <a:ext cx="8167680" cy="477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1640" y="1471680"/>
                    <a:ext cx="8167680" cy="477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0" name=""/>
          <p:cNvSpPr/>
          <p:nvPr/>
        </p:nvSpPr>
        <p:spPr>
          <a:xfrm>
            <a:off x="849240" y="1530360"/>
            <a:ext cx="9264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b4ca"/>
            </a:gs>
            <a:gs pos="50000">
              <a:srgbClr val="ccffff"/>
            </a:gs>
            <a:gs pos="100000">
              <a:srgbClr val="76b4c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762120" y="739440"/>
            <a:ext cx="892152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sGoth BT"/>
              </a:rPr>
              <a:t>LERCANIDIPINE AS A % OF ALL CALCIUM CHANNEL BLOCKERS</a:t>
            </a:r>
            <a:endParaRPr b="1" lang="en-US" sz="2000" spc="-1" strike="noStrike">
              <a:solidFill>
                <a:srgbClr val="000000"/>
              </a:solidFill>
              <a:latin typeface="NewsGoth BT"/>
            </a:endParaRPr>
          </a:p>
        </p:txBody>
      </p:sp>
      <p:graphicFrame>
        <p:nvGraphicFramePr>
          <p:cNvPr id="392" name=""/>
          <p:cNvGraphicFramePr/>
          <p:nvPr/>
        </p:nvGraphicFramePr>
        <p:xfrm>
          <a:off x="1152360" y="1920960"/>
          <a:ext cx="8561520" cy="441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2360" y="1920960"/>
                    <a:ext cx="8561520" cy="441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4" name=""/>
          <p:cNvSpPr/>
          <p:nvPr/>
        </p:nvSpPr>
        <p:spPr>
          <a:xfrm>
            <a:off x="763560" y="1352520"/>
            <a:ext cx="9226440" cy="398880"/>
          </a:xfrm>
          <a:prstGeom prst="rect">
            <a:avLst/>
          </a:prstGeom>
          <a:gradFill rotWithShape="0">
            <a:gsLst>
              <a:gs pos="0">
                <a:srgbClr val="76b4ca"/>
              </a:gs>
              <a:gs pos="50000">
                <a:srgbClr val="ccffff"/>
              </a:gs>
              <a:gs pos="100000">
                <a:srgbClr val="76b4c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sGoth BT"/>
              </a:rPr>
              <a:t>IMS data - 2Q 2001 - bubble size represents $ market value of CCB’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b4ca"/>
            </a:gs>
            <a:gs pos="50000">
              <a:srgbClr val="ccffff"/>
            </a:gs>
            <a:gs pos="100000">
              <a:srgbClr val="76b4c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5" name=""/>
          <p:cNvGraphicFramePr/>
          <p:nvPr/>
        </p:nvGraphicFramePr>
        <p:xfrm>
          <a:off x="1241280" y="1703520"/>
          <a:ext cx="8514000" cy="448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41280" y="1703520"/>
                    <a:ext cx="8514000" cy="448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7" name=""/>
          <p:cNvSpPr/>
          <p:nvPr/>
        </p:nvSpPr>
        <p:spPr>
          <a:xfrm>
            <a:off x="6656760" y="1560600"/>
            <a:ext cx="183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NewsGoth BT"/>
              </a:rPr>
              <a:t>% share of CCB’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279080" y="1596960"/>
            <a:ext cx="105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NewsGoth BT"/>
              </a:rPr>
              <a:t>$ mill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108400" y="113976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917640" y="1016640"/>
            <a:ext cx="9167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NewsGoth BT"/>
              </a:rPr>
              <a:t>LERCANIDIPINE - QUARTERLY IMS DATA IN 11 KEY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849240" y="1530360"/>
            <a:ext cx="9264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b4ca"/>
            </a:gs>
            <a:gs pos="50000">
              <a:srgbClr val="ccffff"/>
            </a:gs>
            <a:gs pos="100000">
              <a:srgbClr val="76b4c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2120" y="898560"/>
            <a:ext cx="952488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NewsGoth BT"/>
              </a:rPr>
              <a:t>KEY EVENTS IN 2000</a:t>
            </a:r>
            <a:endParaRPr b="1" lang="en-US" sz="3000" spc="-1" strike="noStrike">
              <a:solidFill>
                <a:srgbClr val="000000"/>
              </a:solidFill>
              <a:latin typeface="NewsGoth B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7280" y="3087360"/>
            <a:ext cx="8794800" cy="21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NewsGoth BT"/>
              <a:buChar char="•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NewsGoth BT"/>
              </a:rPr>
              <a:t>Strong improvement in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-351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NewsGoth BT"/>
              <a:buChar char="•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NewsGoth BT"/>
              </a:rPr>
              <a:t>Expansion in France completed successfu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-351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NewsGoth BT"/>
              <a:buChar char="•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NewsGoth BT"/>
              </a:rPr>
              <a:t>Zanidip</a:t>
            </a:r>
            <a:r>
              <a:rPr b="1" lang="en-US" sz="2400" spc="-1" strike="noStrike" baseline="30000">
                <a:solidFill>
                  <a:srgbClr val="000000"/>
                </a:solidFill>
                <a:latin typeface="NewsGoth BT"/>
              </a:rPr>
              <a:t>®</a:t>
            </a:r>
            <a:r>
              <a:rPr b="1" lang="en-US" sz="2400" spc="-1" strike="noStrike">
                <a:solidFill>
                  <a:srgbClr val="000000"/>
                </a:solidFill>
                <a:latin typeface="NewsGoth BT"/>
              </a:rPr>
              <a:t> license for the U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-351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NewsGoth BT"/>
              <a:buChar char="•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NewsGoth BT"/>
              </a:rPr>
              <a:t>Pharmacia agreement: a strong basis for further grow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39880" y="1692360"/>
            <a:ext cx="94424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b4ca"/>
            </a:gs>
            <a:gs pos="50000">
              <a:srgbClr val="ccffff"/>
            </a:gs>
            <a:gs pos="100000">
              <a:srgbClr val="76b4c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762120" y="895320"/>
            <a:ext cx="9524880" cy="62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NewsGoth BT"/>
              </a:rPr>
              <a:t>ROLL OUT PLAN</a:t>
            </a:r>
            <a:endParaRPr b="1" lang="en-US" sz="3000" spc="-1" strike="noStrike">
              <a:solidFill>
                <a:srgbClr val="000000"/>
              </a:solidFill>
              <a:latin typeface="NewsGoth BT"/>
            </a:endParaRPr>
          </a:p>
        </p:txBody>
      </p:sp>
      <p:sp>
        <p:nvSpPr>
          <p:cNvPr id="403" name=""/>
          <p:cNvSpPr/>
          <p:nvPr/>
        </p:nvSpPr>
        <p:spPr>
          <a:xfrm>
            <a:off x="771480" y="1782720"/>
            <a:ext cx="9468000" cy="638280"/>
          </a:xfrm>
          <a:prstGeom prst="rect">
            <a:avLst/>
          </a:prstGeom>
          <a:gradFill rotWithShape="0">
            <a:gsLst>
              <a:gs pos="0">
                <a:srgbClr val="77aec9"/>
              </a:gs>
              <a:gs pos="50000">
                <a:srgbClr val="ccffff"/>
              </a:gs>
              <a:gs pos="100000">
                <a:srgbClr val="77aec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884160" y="1525680"/>
            <a:ext cx="93852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912960" y="2544840"/>
            <a:ext cx="9374040" cy="34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NewsGoth BT"/>
              </a:rPr>
              <a:t>LAUNCHED:</a:t>
            </a:r>
            <a:r>
              <a:rPr b="1" lang="en-US" sz="2300" spc="-1" strike="noStrike">
                <a:solidFill>
                  <a:srgbClr val="000000"/>
                </a:solidFill>
                <a:latin typeface="NewsGoth BT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NewsGoth BT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NewsGoth BT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NewsGoth BT"/>
              </a:rPr>
              <a:t>28 countries, representing approx. 30% </a:t>
            </a:r>
            <a:r>
              <a:rPr b="1" lang="en-US" sz="2300" spc="-1" strike="noStrike">
                <a:solidFill>
                  <a:srgbClr val="000000"/>
                </a:solidFill>
                <a:latin typeface="NewsGoth BT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NewsGoth BT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NewsGoth BT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NewsGoth BT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NewsGoth BT"/>
              </a:rPr>
              <a:t>   of world market (of which 15% in last </a:t>
            </a:r>
            <a:r>
              <a:rPr b="1" lang="en-US" sz="2300" spc="-1" strike="noStrike">
                <a:solidFill>
                  <a:srgbClr val="000000"/>
                </a:solidFill>
                <a:latin typeface="NewsGoth BT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NewsGoth BT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NewsGoth BT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NewsGoth BT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NewsGoth BT"/>
              </a:rPr>
              <a:t>   12 months)</a:t>
            </a:r>
            <a:br>
              <a:rPr sz="2300"/>
            </a:br>
            <a:br>
              <a:rPr sz="2300"/>
            </a:br>
            <a:r>
              <a:rPr b="1" lang="en-US" sz="2300" spc="-1" strike="noStrike">
                <a:solidFill>
                  <a:srgbClr val="000000"/>
                </a:solidFill>
                <a:latin typeface="NewsGoth BT"/>
              </a:rPr>
              <a:t>APPROVED:</a:t>
            </a:r>
            <a:r>
              <a:rPr b="1" lang="en-US" sz="2300" spc="-1" strike="noStrike">
                <a:solidFill>
                  <a:srgbClr val="000000"/>
                </a:solidFill>
                <a:latin typeface="NewsGoth BT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NewsGoth BT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NewsGoth BT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NewsGoth BT"/>
              </a:rPr>
              <a:t>6 additional countries</a:t>
            </a:r>
            <a:br>
              <a:rPr sz="2300"/>
            </a:br>
            <a:br>
              <a:rPr sz="2300"/>
            </a:br>
            <a:r>
              <a:rPr b="1" lang="en-US" sz="2300" spc="-1" strike="noStrike">
                <a:solidFill>
                  <a:srgbClr val="000000"/>
                </a:solidFill>
                <a:latin typeface="NewsGoth BT"/>
              </a:rPr>
              <a:t>FILED FOR</a:t>
            </a:r>
            <a:br>
              <a:rPr sz="2300"/>
            </a:br>
            <a:r>
              <a:rPr b="1" lang="en-US" sz="2300" spc="-1" strike="noStrike">
                <a:solidFill>
                  <a:srgbClr val="000000"/>
                </a:solidFill>
                <a:latin typeface="NewsGoth BT"/>
              </a:rPr>
              <a:t>APPROVAL:</a:t>
            </a:r>
            <a:r>
              <a:rPr b="1" lang="en-US" sz="2300" spc="-1" strike="noStrike">
                <a:solidFill>
                  <a:srgbClr val="000000"/>
                </a:solidFill>
                <a:latin typeface="NewsGoth BT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NewsGoth BT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NewsGoth BT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NewsGoth BT"/>
              </a:rPr>
              <a:t>44 additional countries</a:t>
            </a:r>
            <a:br>
              <a:rPr sz="2300"/>
            </a:br>
            <a:br>
              <a:rPr sz="2300"/>
            </a:br>
            <a:r>
              <a:rPr b="1" lang="en-US" sz="2300" spc="-1" strike="noStrike">
                <a:solidFill>
                  <a:srgbClr val="000000"/>
                </a:solidFill>
                <a:latin typeface="NewsGoth BT"/>
              </a:rPr>
              <a:t>LICENSED:</a:t>
            </a:r>
            <a:r>
              <a:rPr b="1" lang="en-US" sz="2300" spc="-1" strike="noStrike">
                <a:solidFill>
                  <a:srgbClr val="000000"/>
                </a:solidFill>
                <a:latin typeface="NewsGoth BT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NewsGoth BT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NewsGoth BT"/>
              </a:rPr>
              <a:t>	</a:t>
            </a:r>
            <a:r>
              <a:rPr b="1" lang="en-US" sz="2300" spc="-1" strike="noStrike">
                <a:solidFill>
                  <a:srgbClr val="000000"/>
                </a:solidFill>
                <a:latin typeface="NewsGoth BT"/>
              </a:rPr>
              <a:t>&gt;30 additional countrie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062000" y="1940040"/>
            <a:ext cx="88502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NewsGoth BT"/>
              </a:rPr>
              <a:t>Status Toda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b4ca"/>
            </a:gs>
            <a:gs pos="50000">
              <a:srgbClr val="ccffff"/>
            </a:gs>
            <a:gs pos="100000">
              <a:srgbClr val="76b4c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762120" y="895320"/>
            <a:ext cx="9524880" cy="62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NewsGoth BT"/>
              </a:rPr>
              <a:t>ROLL OUT PLAN</a:t>
            </a:r>
            <a:endParaRPr b="1" lang="en-US" sz="3000" spc="-1" strike="noStrike">
              <a:solidFill>
                <a:srgbClr val="000000"/>
              </a:solidFill>
              <a:latin typeface="NewsGoth BT"/>
            </a:endParaRPr>
          </a:p>
        </p:txBody>
      </p:sp>
      <p:sp>
        <p:nvSpPr>
          <p:cNvPr id="408" name=""/>
          <p:cNvSpPr/>
          <p:nvPr/>
        </p:nvSpPr>
        <p:spPr>
          <a:xfrm>
            <a:off x="771480" y="1782720"/>
            <a:ext cx="9468000" cy="638280"/>
          </a:xfrm>
          <a:prstGeom prst="rect">
            <a:avLst/>
          </a:prstGeom>
          <a:gradFill rotWithShape="0">
            <a:gsLst>
              <a:gs pos="0">
                <a:srgbClr val="77aec9"/>
              </a:gs>
              <a:gs pos="50000">
                <a:srgbClr val="ccffff"/>
              </a:gs>
              <a:gs pos="100000">
                <a:srgbClr val="77aec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884160" y="1525680"/>
            <a:ext cx="93852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508040" y="2711520"/>
            <a:ext cx="8371080" cy="33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NewsGoth BT"/>
              </a:rPr>
              <a:t>AUSTRALIA</a:t>
            </a:r>
            <a:r>
              <a:rPr b="1" lang="en-US" sz="2400" spc="-1" strike="noStrike">
                <a:solidFill>
                  <a:srgbClr val="000000"/>
                </a:solidFill>
                <a:latin typeface="NewsGoth BT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NewsGoth BT"/>
              </a:rPr>
              <a:t>(approved, launch late 2001 - early 2002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NewsGoth BT"/>
              </a:rPr>
              <a:t>CHINA           (approval expected 4Q 2001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NewsGoth BT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NewsGoth BT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NewsGoth BT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NewsGoth BT"/>
              </a:rPr>
              <a:t>USA </a:t>
            </a:r>
            <a:r>
              <a:rPr b="1" lang="en-US" sz="2400" spc="-1" strike="noStrike">
                <a:solidFill>
                  <a:srgbClr val="000000"/>
                </a:solidFill>
                <a:latin typeface="NewsGoth BT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NewsGoth BT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NewsGoth BT"/>
              </a:rPr>
              <a:t>(to be filed 4Q 2001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NewsGoth BT"/>
              </a:rPr>
              <a:t>CANADA       (filing expected 4Q 2001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NewsGoth BT"/>
              </a:rPr>
              <a:t>JAPAN </a:t>
            </a:r>
            <a:r>
              <a:rPr b="1" lang="en-US" sz="2400" spc="-1" strike="noStrike">
                <a:solidFill>
                  <a:srgbClr val="000000"/>
                </a:solidFill>
                <a:latin typeface="NewsGoth BT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NewsGoth BT"/>
              </a:rPr>
              <a:t>(local phase III studi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062000" y="1940040"/>
            <a:ext cx="88502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NewsGoth BT"/>
              </a:rPr>
              <a:t>Key countries where regulatory development is ongo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b4ca"/>
            </a:gs>
            <a:gs pos="50000">
              <a:srgbClr val="ccffff"/>
            </a:gs>
            <a:gs pos="100000">
              <a:srgbClr val="76b4c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915840" y="856800"/>
            <a:ext cx="8763120" cy="93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NewsGoth BT"/>
              </a:rPr>
              <a:t>THE HYPERTENSION MARKET IN THE USA</a:t>
            </a:r>
            <a:endParaRPr b="1" lang="en-US" sz="3000" spc="-1" strike="noStrike">
              <a:solidFill>
                <a:srgbClr val="000000"/>
              </a:solidFill>
              <a:latin typeface="NewsGoth B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293480" y="2506320"/>
            <a:ext cx="8545320" cy="29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40200" indent="-340200">
              <a:lnSpc>
                <a:spcPct val="110000"/>
              </a:lnSpc>
              <a:spcBef>
                <a:spcPts val="1500"/>
              </a:spcBef>
              <a:buClr>
                <a:srgbClr val="000000"/>
              </a:buClr>
              <a:buFont typeface="NewsGoth BT"/>
              <a:buChar char="•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NewsGoth BT"/>
              </a:rPr>
              <a:t>Hypertension affects over 50 million people in the U.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0200" indent="-340200">
              <a:lnSpc>
                <a:spcPct val="110000"/>
              </a:lnSpc>
              <a:spcBef>
                <a:spcPts val="1500"/>
              </a:spcBef>
              <a:buClr>
                <a:srgbClr val="000000"/>
              </a:buClr>
              <a:buFont typeface="NewsGoth BT"/>
              <a:buChar char="•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NewsGoth BT"/>
              </a:rPr>
              <a:t>Market size exceeds 12 bn US$ in annual s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0200" indent="-340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NewsGoth BT"/>
              <a:buChar char="•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NewsGoth BT"/>
              </a:rPr>
              <a:t>Calcium Channel Blockers account for well over one third of the anti-hypertensive market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0200" indent="-340200"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NewsGoth BT"/>
              <a:buChar char="•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NewsGoth BT"/>
              </a:rPr>
              <a:t>Norvasc</a:t>
            </a:r>
            <a:r>
              <a:rPr b="0" lang="en-US" sz="2400" spc="-1" strike="noStrike" baseline="30000">
                <a:solidFill>
                  <a:srgbClr val="000000"/>
                </a:solidFill>
                <a:latin typeface="NewsGoth BT"/>
              </a:rPr>
              <a:t>®</a:t>
            </a:r>
            <a:r>
              <a:rPr b="1" lang="en-US" sz="2400" spc="-1" strike="noStrike">
                <a:solidFill>
                  <a:srgbClr val="000000"/>
                </a:solidFill>
                <a:latin typeface="NewsGoth BT"/>
              </a:rPr>
              <a:t> sales exceed $1.5 b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844560" y="1654200"/>
            <a:ext cx="94424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420920" y="5981760"/>
            <a:ext cx="364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NewsGoth BT"/>
              </a:rPr>
              <a:t>Source: Recordati / Forest Laborato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b4ca"/>
            </a:gs>
            <a:gs pos="50000">
              <a:srgbClr val="ccffff"/>
            </a:gs>
            <a:gs pos="100000">
              <a:srgbClr val="76b4c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915480" y="876240"/>
            <a:ext cx="9371160" cy="78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NewsGoth BT"/>
              </a:rPr>
              <a:t>FOREST LABORATORIES: THE RIGHT PARTNER</a:t>
            </a:r>
            <a:endParaRPr b="1" lang="en-US" sz="3000" spc="-1" strike="noStrike">
              <a:solidFill>
                <a:srgbClr val="000000"/>
              </a:solidFill>
              <a:latin typeface="NewsGoth B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486080" y="2149200"/>
            <a:ext cx="8199360" cy="34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9320" indent="-319320">
              <a:lnSpc>
                <a:spcPct val="110000"/>
              </a:lnSpc>
              <a:spcBef>
                <a:spcPts val="1500"/>
              </a:spcBef>
              <a:buClr>
                <a:srgbClr val="000000"/>
              </a:buClr>
              <a:buFont typeface="NewsGoth BT"/>
              <a:buChar char="•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NewsGoth BT"/>
              </a:rPr>
              <a:t>Annual sales exceeding 1.1 billion US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9320" indent="-319320">
              <a:lnSpc>
                <a:spcPct val="110000"/>
              </a:lnSpc>
              <a:spcBef>
                <a:spcPts val="1500"/>
              </a:spcBef>
              <a:buClr>
                <a:srgbClr val="000000"/>
              </a:buClr>
              <a:buFont typeface="NewsGoth BT"/>
              <a:buChar char="•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NewsGoth BT"/>
              </a:rPr>
              <a:t>Sales force of over 1400 R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9320" indent="-319320">
              <a:lnSpc>
                <a:spcPct val="110000"/>
              </a:lnSpc>
              <a:spcBef>
                <a:spcPts val="1500"/>
              </a:spcBef>
              <a:buClr>
                <a:srgbClr val="000000"/>
              </a:buClr>
              <a:buFont typeface="NewsGoth BT"/>
              <a:buChar char="•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NewsGoth BT"/>
              </a:rPr>
              <a:t>Established presence in the cardiovascular mar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9320" indent="-319320">
              <a:lnSpc>
                <a:spcPct val="110000"/>
              </a:lnSpc>
              <a:spcBef>
                <a:spcPts val="1500"/>
              </a:spcBef>
              <a:buClr>
                <a:srgbClr val="000000"/>
              </a:buClr>
              <a:buFont typeface="NewsGoth BT"/>
              <a:buChar char="•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NewsGoth BT"/>
              </a:rPr>
              <a:t>Tiazac</a:t>
            </a:r>
            <a:r>
              <a:rPr b="1" lang="en-US" sz="2400" spc="-1" strike="noStrike" baseline="30000">
                <a:solidFill>
                  <a:srgbClr val="000000"/>
                </a:solidFill>
                <a:latin typeface="NewsGoth BT"/>
              </a:rPr>
              <a:t>®</a:t>
            </a:r>
            <a:r>
              <a:rPr b="1" lang="en-US" sz="2400" spc="-1" strike="noStrike">
                <a:solidFill>
                  <a:srgbClr val="000000"/>
                </a:solidFill>
                <a:latin typeface="NewsGoth BT"/>
              </a:rPr>
              <a:t> sales well in excess of 150 ml US$ (&gt;5% market sha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9320" indent="-319320">
              <a:lnSpc>
                <a:spcPct val="110000"/>
              </a:lnSpc>
              <a:spcBef>
                <a:spcPts val="1500"/>
              </a:spcBef>
              <a:buClr>
                <a:srgbClr val="000000"/>
              </a:buClr>
              <a:buFont typeface="NewsGoth BT"/>
              <a:buChar char="•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NewsGoth BT"/>
              </a:rPr>
              <a:t>Strong track record in European partnerships &amp;  collaborations in FDA fil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844560" y="1654200"/>
            <a:ext cx="94424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321560" y="5981760"/>
            <a:ext cx="26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NewsGoth BT"/>
              </a:rPr>
              <a:t>Source: Forest Laborato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b4ca"/>
            </a:gs>
            <a:gs pos="50000">
              <a:srgbClr val="ccffff"/>
            </a:gs>
            <a:gs pos="100000">
              <a:srgbClr val="76b4c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762120" y="971640"/>
            <a:ext cx="952488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NewsGoth BT"/>
              </a:rPr>
              <a:t>TIAZAC</a:t>
            </a:r>
            <a:r>
              <a:rPr b="1" lang="en-US" sz="3000" spc="-1" strike="noStrike" baseline="30000">
                <a:solidFill>
                  <a:srgbClr val="000000"/>
                </a:solidFill>
                <a:latin typeface="NewsGoth BT"/>
              </a:rPr>
              <a:t>®</a:t>
            </a:r>
            <a:r>
              <a:rPr b="1" lang="en-US" sz="3000" spc="-1" strike="noStrike">
                <a:solidFill>
                  <a:srgbClr val="000000"/>
                </a:solidFill>
                <a:latin typeface="NewsGoth BT"/>
              </a:rPr>
              <a:t> SALES DEVELOPMENT</a:t>
            </a:r>
            <a:endParaRPr b="1" lang="en-US" sz="3000" spc="-1" strike="noStrike">
              <a:solidFill>
                <a:srgbClr val="000000"/>
              </a:solidFill>
              <a:latin typeface="NewsGoth BT"/>
            </a:endParaRPr>
          </a:p>
        </p:txBody>
      </p:sp>
      <p:sp>
        <p:nvSpPr>
          <p:cNvPr id="421" name=""/>
          <p:cNvSpPr/>
          <p:nvPr/>
        </p:nvSpPr>
        <p:spPr>
          <a:xfrm>
            <a:off x="896760" y="1452600"/>
            <a:ext cx="938556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2" name=""/>
          <p:cNvGraphicFramePr/>
          <p:nvPr/>
        </p:nvGraphicFramePr>
        <p:xfrm>
          <a:off x="1187280" y="1949400"/>
          <a:ext cx="8439480" cy="405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949400"/>
                    <a:ext cx="8439480" cy="405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4" name=""/>
          <p:cNvSpPr/>
          <p:nvPr/>
        </p:nvSpPr>
        <p:spPr>
          <a:xfrm>
            <a:off x="1239480" y="1558800"/>
            <a:ext cx="156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ewsGoth BT"/>
              </a:rPr>
              <a:t>(million US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flipH="1">
            <a:off x="2349360" y="4495680"/>
            <a:ext cx="524160" cy="3002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3866400" y="3516480"/>
            <a:ext cx="531720" cy="2793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8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flipH="1">
            <a:off x="5392800" y="2738520"/>
            <a:ext cx="598320" cy="2984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H="1">
            <a:off x="6865200" y="2225520"/>
            <a:ext cx="598680" cy="2984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5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8007120" y="2475360"/>
            <a:ext cx="1610280" cy="5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ff"/>
                </a:solidFill>
                <a:latin typeface="NewsGoth BT"/>
              </a:rPr>
              <a:t>&gt;5% marke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ff"/>
                </a:solidFill>
                <a:latin typeface="NewsGoth BT"/>
              </a:rPr>
              <a:t>sh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321560" y="5981760"/>
            <a:ext cx="26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NewsGoth BT"/>
              </a:rPr>
              <a:t>Source: Forest Laborato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923520" y="5952960"/>
            <a:ext cx="239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NewsGoth BT"/>
              </a:rPr>
              <a:t>Fiscal year ending M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8418600" y="1932120"/>
            <a:ext cx="598320" cy="2984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7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b4ca"/>
            </a:gs>
            <a:gs pos="50000">
              <a:srgbClr val="ccffff"/>
            </a:gs>
            <a:gs pos="100000">
              <a:srgbClr val="76b4c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762120" y="898560"/>
            <a:ext cx="952488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NewsGoth BT"/>
              </a:rPr>
              <a:t>DRIVERS FOR GROWTH</a:t>
            </a:r>
            <a:br>
              <a:rPr sz="3000"/>
            </a:br>
            <a:r>
              <a:rPr b="1" lang="en-US" sz="2400" spc="-1" strike="noStrike">
                <a:solidFill>
                  <a:srgbClr val="000000"/>
                </a:solidFill>
                <a:latin typeface="NewsGoth BT"/>
              </a:rPr>
              <a:t>LICENSED-IN PRODUCTS</a:t>
            </a:r>
            <a:endParaRPr b="1" lang="en-US" sz="2400" spc="-1" strike="noStrike">
              <a:solidFill>
                <a:srgbClr val="000000"/>
              </a:solidFill>
              <a:latin typeface="NewsGoth B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726920" y="2225520"/>
            <a:ext cx="8157960" cy="35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NewsGoth BT"/>
              <a:buChar char="•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NewsGoth BT"/>
              </a:rPr>
              <a:t>Focus, determination, speed and willing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NewsGoth BT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NewsGoth BT"/>
              </a:rPr>
              <a:t>to inv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-3510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NewsGoth BT"/>
              <a:buChar char="•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NewsGoth BT"/>
              </a:rPr>
              <a:t>Multi-territorial pres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-3510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NewsGoth BT"/>
              <a:buChar char="•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NewsGoth BT"/>
              </a:rPr>
              <a:t>Growing interest in the cardiovascu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NewsGoth BT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NewsGoth BT"/>
              </a:rPr>
              <a:t>therapeutic a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-351000">
              <a:lnSpc>
                <a:spcPct val="160000"/>
              </a:lnSpc>
              <a:spcBef>
                <a:spcPts val="601"/>
              </a:spcBef>
              <a:buClr>
                <a:srgbClr val="000000"/>
              </a:buClr>
              <a:buFont typeface="NewsGoth BT"/>
              <a:buChar char="•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NewsGoth BT"/>
              </a:rPr>
              <a:t>A pipeline with the right balance betw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NewsGoth BT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NewsGoth BT"/>
              </a:rPr>
              <a:t>potential and risks as well as time to mar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839880" y="2035080"/>
            <a:ext cx="94424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b4ca"/>
            </a:gs>
            <a:gs pos="50000">
              <a:srgbClr val="ccffff"/>
            </a:gs>
            <a:gs pos="100000">
              <a:srgbClr val="76b4c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762120" y="898560"/>
            <a:ext cx="952488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NewsGoth BT"/>
              </a:rPr>
              <a:t>FILLING THE PIPELINE: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NewsGoth BT"/>
              </a:rPr>
              <a:t>LICENSING-IN RESULTS YTD 2001</a:t>
            </a:r>
            <a:endParaRPr b="1" lang="en-US" sz="3000" spc="-1" strike="noStrike">
              <a:solidFill>
                <a:srgbClr val="000000"/>
              </a:solidFill>
              <a:latin typeface="NewsGoth B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266840" y="2266920"/>
            <a:ext cx="8678880" cy="479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NewsGoth BT"/>
              <a:buChar char="•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NewsGoth BT"/>
              </a:rPr>
              <a:t>An advantageous nitroglycerin patch from Myla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NewsGoth BT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NewsGoth BT"/>
              </a:rPr>
              <a:t>Launch in Italy, filing in France and Portugal via MRP, in 200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-3510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NewsGoth BT"/>
              <a:buChar char="•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NewsGoth BT"/>
              </a:rPr>
              <a:t>An antiviral from Roche in semi-exclusivity for Italy (under registratio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-3510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NewsGoth BT"/>
              <a:buChar char="•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NewsGoth BT"/>
              </a:rPr>
              <a:t>Advanced negotiations for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58880" indent="-2905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NewsGoth BT"/>
              <a:buChar char="–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NewsGoth BT"/>
              </a:rPr>
              <a:t>A “superstatin” in semi-exclusivity for Italy (phase III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58880" indent="-2905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NewsGoth BT"/>
              <a:buChar char="–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NewsGoth BT"/>
              </a:rPr>
              <a:t>An anti-ulcer drug (PPI) for Italy (already marketed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58880" indent="-2905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NewsGoth BT"/>
              <a:buChar char="–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NewsGoth BT"/>
              </a:rPr>
              <a:t>Escitalopram for Ital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NewsGoth BT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NewsGoth BT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NewsGoth BT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NewsGoth BT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NewsGoth BT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NewsGoth BT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839880" y="2035080"/>
            <a:ext cx="94424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b4ca"/>
            </a:gs>
            <a:gs pos="50000">
              <a:srgbClr val="ccffff"/>
            </a:gs>
            <a:gs pos="100000">
              <a:srgbClr val="76b4c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762120" y="898560"/>
            <a:ext cx="952488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NewsGoth BT"/>
              </a:rPr>
              <a:t>FILLING THE PIPELINE: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NewsGoth BT"/>
              </a:rPr>
              <a:t>ONGOING R&amp;D</a:t>
            </a:r>
            <a:endParaRPr b="1" lang="en-US" sz="3000" spc="-1" strike="noStrike">
              <a:solidFill>
                <a:srgbClr val="000000"/>
              </a:solidFill>
              <a:latin typeface="NewsGoth B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726920" y="2746080"/>
            <a:ext cx="8157960" cy="16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NewsGoth BT"/>
              <a:buChar char="•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NewsGoth BT"/>
              </a:rPr>
              <a:t>Lercanidipi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NewsGoth BT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NewsGoth BT"/>
              </a:rPr>
              <a:t>- Advantageous clinical profile consolid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NewsGoth BT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NewsGoth BT"/>
              </a:rPr>
              <a:t>- Patent life in exte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39880" y="2035080"/>
            <a:ext cx="94424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b4ca"/>
            </a:gs>
            <a:gs pos="50000">
              <a:srgbClr val="ccffff"/>
            </a:gs>
            <a:gs pos="100000">
              <a:srgbClr val="76b4c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762120" y="898560"/>
            <a:ext cx="952488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NewsGoth BT"/>
              </a:rPr>
              <a:t>FILLING THE PIPELINE: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NewsGoth BT"/>
              </a:rPr>
              <a:t>ONGOING R&amp;D</a:t>
            </a:r>
            <a:endParaRPr b="1" lang="en-US" sz="3000" spc="-1" strike="noStrike">
              <a:solidFill>
                <a:srgbClr val="000000"/>
              </a:solidFill>
              <a:latin typeface="NewsGoth BT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726920" y="2225520"/>
            <a:ext cx="8157960" cy="406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NewsGoth BT"/>
              <a:buChar char="•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NewsGoth BT"/>
              </a:rPr>
              <a:t>Lercanidipine-ACEI fixed combin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NewsGoth BT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NewsGoth BT"/>
              </a:rPr>
              <a:t>- New aggressive targets for blood press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NewsGoth BT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NewsGoth BT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NewsGoth BT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NewsGoth BT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NewsGoth BT"/>
              </a:rPr>
              <a:t>- Combination of drugs needed for most pati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NewsGoth BT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NewsGoth BT"/>
              </a:rPr>
              <a:t>- Patient compli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NewsGoth BT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NewsGoth BT"/>
              </a:rPr>
              <a:t>- Fixed combinations will play a significant ro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NewsGoth BT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NewsGoth BT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NewsGoth BT"/>
              </a:rPr>
              <a:t>in the future hypertension mar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NewsGoth BT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NewsGoth BT"/>
              </a:rPr>
              <a:t>- Currently in phase I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839880" y="2035080"/>
            <a:ext cx="94424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b4ca"/>
            </a:gs>
            <a:gs pos="50000">
              <a:srgbClr val="ccffff"/>
            </a:gs>
            <a:gs pos="100000">
              <a:srgbClr val="76b4c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762120" y="898560"/>
            <a:ext cx="952488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NewsGoth BT"/>
              </a:rPr>
              <a:t>FILLING THE PIPELINE: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NewsGoth BT"/>
              </a:rPr>
              <a:t>ONGOING R&amp;D</a:t>
            </a:r>
            <a:endParaRPr b="1" lang="en-US" sz="3000" spc="-1" strike="noStrike">
              <a:solidFill>
                <a:srgbClr val="000000"/>
              </a:solidFill>
              <a:latin typeface="NewsGoth B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726920" y="2505240"/>
            <a:ext cx="8157960" cy="402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NewsGoth BT"/>
              <a:buChar char="•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NewsGoth BT"/>
              </a:rPr>
              <a:t>Urolog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NewsGoth BT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NewsGoth BT"/>
              </a:rPr>
              <a:t>- Collaboration agreement with Pharma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NewsGoth BT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NewsGoth BT"/>
              </a:rPr>
              <a:t>- Lead optimization in the area of overa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NewsGoth BT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NewsGoth BT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NewsGoth BT"/>
              </a:rPr>
              <a:t>bladder is at an advanced s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NewsGoth BT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NewsGoth BT"/>
              </a:rPr>
              <a:t>- Formulation activities are underway on a l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NewsGoth BT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NewsGoth BT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NewsGoth BT"/>
              </a:rPr>
              <a:t>compound for female sexual dys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NewsGoth BT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NewsGoth BT"/>
              </a:rPr>
              <a:t>- “Satisfactory progress”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839880" y="2035080"/>
            <a:ext cx="94424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b4ca"/>
            </a:gs>
            <a:gs pos="50000">
              <a:srgbClr val="ccffff"/>
            </a:gs>
            <a:gs pos="100000">
              <a:srgbClr val="76b4c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898560"/>
            <a:ext cx="952488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NewsGoth BT"/>
              </a:rPr>
              <a:t>KEY RECENT EVENTS</a:t>
            </a:r>
            <a:endParaRPr b="1" lang="en-US" sz="3000" spc="-1" strike="noStrike">
              <a:solidFill>
                <a:srgbClr val="000000"/>
              </a:solidFill>
              <a:latin typeface="NewsGoth B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327400" y="2480760"/>
            <a:ext cx="8794800" cy="222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NewsGoth BT"/>
              <a:buChar char="•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NewsGoth BT"/>
              </a:rPr>
              <a:t>Zanidip</a:t>
            </a:r>
            <a:r>
              <a:rPr b="1" lang="en-US" sz="2400" spc="-1" strike="noStrike" baseline="30000">
                <a:solidFill>
                  <a:srgbClr val="000000"/>
                </a:solidFill>
                <a:latin typeface="NewsGoth BT"/>
              </a:rPr>
              <a:t>®</a:t>
            </a:r>
            <a:r>
              <a:rPr b="1" lang="en-US" sz="2400" spc="-1" strike="noStrike">
                <a:solidFill>
                  <a:srgbClr val="000000"/>
                </a:solidFill>
                <a:latin typeface="NewsGoth BT"/>
              </a:rPr>
              <a:t> ready for filing in the U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-351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NewsGoth BT"/>
              <a:buChar char="•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NewsGoth BT"/>
              </a:rPr>
              <a:t>Pipeline fills 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-351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NewsGoth BT"/>
              <a:buChar char="•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NewsGoth BT"/>
              </a:rPr>
              <a:t>Lercadip</a:t>
            </a:r>
            <a:r>
              <a:rPr b="1" lang="en-US" sz="2400" spc="-1" strike="noStrike" baseline="30000">
                <a:solidFill>
                  <a:srgbClr val="000000"/>
                </a:solidFill>
                <a:latin typeface="NewsGoth BT"/>
              </a:rPr>
              <a:t>®</a:t>
            </a:r>
            <a:r>
              <a:rPr b="1" lang="en-US" sz="2400" spc="-1" strike="noStrike">
                <a:solidFill>
                  <a:srgbClr val="000000"/>
                </a:solidFill>
                <a:latin typeface="NewsGoth BT"/>
              </a:rPr>
              <a:t> in Ita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39880" y="1692360"/>
            <a:ext cx="94424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b4ca"/>
            </a:gs>
            <a:gs pos="50000">
              <a:srgbClr val="ccffff"/>
            </a:gs>
            <a:gs pos="100000">
              <a:srgbClr val="76b4c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761760" y="647280"/>
            <a:ext cx="876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NewsGoth BT"/>
              </a:rPr>
              <a:t>Basis for 2001 - 2004 targets</a:t>
            </a:r>
            <a:endParaRPr b="1" lang="en-US" sz="3000" spc="-1" strike="noStrike">
              <a:solidFill>
                <a:srgbClr val="000000"/>
              </a:solidFill>
              <a:latin typeface="NewsGoth B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879200" y="2413080"/>
            <a:ext cx="7645320" cy="36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NewsGoth BT"/>
              <a:buChar char="•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NewsGoth BT"/>
              </a:rPr>
              <a:t>Current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-351000">
              <a:lnSpc>
                <a:spcPct val="210000"/>
              </a:lnSpc>
              <a:spcBef>
                <a:spcPts val="601"/>
              </a:spcBef>
              <a:buClr>
                <a:srgbClr val="3333cc"/>
              </a:buClr>
              <a:buFont typeface="NewsGoth BT"/>
              <a:buChar char="•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NewsGoth BT"/>
              </a:rPr>
              <a:t>Current products/late stage pro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-351000">
              <a:lnSpc>
                <a:spcPct val="180000"/>
              </a:lnSpc>
              <a:spcBef>
                <a:spcPts val="601"/>
              </a:spcBef>
              <a:buClr>
                <a:srgbClr val="3333cc"/>
              </a:buClr>
              <a:buFont typeface="NewsGoth BT"/>
              <a:buChar char="•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NewsGoth BT"/>
              </a:rPr>
              <a:t>Current geograp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NewsGoth BT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-3510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NewsGoth BT"/>
              <a:buChar char="•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NewsGoth BT"/>
              </a:rPr>
              <a:t>Zanidip  in U.S., Japan not inclu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39880" y="1628640"/>
            <a:ext cx="94424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238560" y="4635360"/>
            <a:ext cx="4446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33cc"/>
                </a:solidFill>
                <a:latin typeface="NewsGoth BT"/>
              </a:rPr>
              <a:t>®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b4ca"/>
            </a:gs>
            <a:gs pos="50000">
              <a:srgbClr val="ccffff"/>
            </a:gs>
            <a:gs pos="100000">
              <a:srgbClr val="76b4c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762120" y="914400"/>
            <a:ext cx="9524880" cy="8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it-IT" sz="3000" spc="-1" strike="noStrike">
                <a:solidFill>
                  <a:srgbClr val="000000"/>
                </a:solidFill>
                <a:latin typeface="NewsGoth BT"/>
              </a:rPr>
              <a:t>2001-2004 TARGETS</a:t>
            </a:r>
            <a:endParaRPr b="1" lang="en-US" sz="3000" spc="-1" strike="noStrike">
              <a:solidFill>
                <a:srgbClr val="000000"/>
              </a:solidFill>
              <a:latin typeface="NewsGoth BT"/>
            </a:endParaRPr>
          </a:p>
        </p:txBody>
      </p:sp>
      <p:sp>
        <p:nvSpPr>
          <p:cNvPr id="453" name=""/>
          <p:cNvSpPr/>
          <p:nvPr/>
        </p:nvSpPr>
        <p:spPr>
          <a:xfrm>
            <a:off x="8136000" y="2006640"/>
            <a:ext cx="1492200" cy="3851280"/>
          </a:xfrm>
          <a:prstGeom prst="rect">
            <a:avLst/>
          </a:prstGeom>
          <a:gradFill rotWithShape="0">
            <a:gsLst>
              <a:gs pos="0">
                <a:srgbClr val="cbcbcb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718320" y="2011320"/>
            <a:ext cx="1301760" cy="3836880"/>
          </a:xfrm>
          <a:prstGeom prst="rect">
            <a:avLst/>
          </a:prstGeom>
          <a:gradFill rotWithShape="0">
            <a:gsLst>
              <a:gs pos="0">
                <a:srgbClr val="77aec9"/>
              </a:gs>
              <a:gs pos="100000">
                <a:srgbClr val="cc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276880" y="2011320"/>
            <a:ext cx="1263600" cy="3846600"/>
          </a:xfrm>
          <a:prstGeom prst="rect">
            <a:avLst/>
          </a:prstGeom>
          <a:gradFill rotWithShape="0">
            <a:gsLst>
              <a:gs pos="0">
                <a:srgbClr val="77aec9"/>
              </a:gs>
              <a:gs pos="100000">
                <a:srgbClr val="cc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814920" y="2011320"/>
            <a:ext cx="1293480" cy="3846600"/>
          </a:xfrm>
          <a:prstGeom prst="rect">
            <a:avLst/>
          </a:prstGeom>
          <a:gradFill rotWithShape="0">
            <a:gsLst>
              <a:gs pos="0">
                <a:srgbClr val="77aec9"/>
              </a:gs>
              <a:gs pos="100000">
                <a:srgbClr val="cc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58880" y="857160"/>
            <a:ext cx="95234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525640" y="2098800"/>
            <a:ext cx="76608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NewsGoth BT"/>
              </a:rPr>
              <a:t>2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079520" y="2075040"/>
            <a:ext cx="76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NewsGoth BT"/>
              </a:rPr>
              <a:t>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975600" y="2684520"/>
            <a:ext cx="124596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NewsGoth BT"/>
              </a:rPr>
              <a:t>Net S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992880" y="3130560"/>
            <a:ext cx="154152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NewsGoth BT"/>
              </a:rPr>
              <a:t>Gross Prof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ewsGoth BT"/>
              </a:rPr>
              <a:t>as % of s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992880" y="5270400"/>
            <a:ext cx="154152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cc"/>
                </a:solidFill>
                <a:latin typeface="NewsGoth BT"/>
              </a:rPr>
              <a:t>EB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ewsGoth BT"/>
              </a:rPr>
              <a:t>as % of s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044600" y="2651040"/>
            <a:ext cx="83916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sGoth BT"/>
              </a:rPr>
              <a:t>355.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010040" y="3108240"/>
            <a:ext cx="900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sGoth BT"/>
              </a:rPr>
              <a:t>206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sGoth BT"/>
              </a:rPr>
              <a:t>58.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010040" y="5226120"/>
            <a:ext cx="900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sGoth BT"/>
              </a:rPr>
              <a:t>46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sGoth BT"/>
              </a:rPr>
              <a:t>13.1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626800" y="2651040"/>
            <a:ext cx="61956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sGoth BT"/>
              </a:rPr>
              <a:t>42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5506920" y="3108240"/>
            <a:ext cx="900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sGoth BT"/>
              </a:rPr>
              <a:t>24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sGoth BT"/>
              </a:rPr>
              <a:t>58.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992880" y="3841920"/>
            <a:ext cx="154152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cc"/>
                </a:solidFill>
                <a:latin typeface="NewsGoth BT"/>
              </a:rPr>
              <a:t>R&amp;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ewsGoth BT"/>
              </a:rPr>
              <a:t>as % of s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010040" y="3819600"/>
            <a:ext cx="900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sGoth BT"/>
              </a:rPr>
              <a:t>36.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sGoth BT"/>
              </a:rPr>
              <a:t>10.4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580720" y="3819600"/>
            <a:ext cx="7538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sGoth BT"/>
              </a:rPr>
              <a:t>3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sGoth BT"/>
              </a:rPr>
              <a:t>8.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27000" y="4440240"/>
            <a:ext cx="87044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933480" y="2575080"/>
            <a:ext cx="869796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V="1">
            <a:off x="920880" y="3743280"/>
            <a:ext cx="8710560" cy="64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936720" y="5848200"/>
            <a:ext cx="8691480" cy="129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506920" y="5226120"/>
            <a:ext cx="900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sGoth BT"/>
              </a:rPr>
              <a:t>5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sGoth BT"/>
              </a:rPr>
              <a:t>13.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986160" y="2097000"/>
            <a:ext cx="76608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NewsGoth BT"/>
              </a:rPr>
              <a:t>20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941880" y="3108240"/>
            <a:ext cx="900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sGoth BT"/>
              </a:rPr>
              <a:t>32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sGoth BT"/>
              </a:rPr>
              <a:t>60.1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941880" y="3819600"/>
            <a:ext cx="900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sGoth BT"/>
              </a:rPr>
              <a:t>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sGoth BT"/>
              </a:rPr>
              <a:t>10.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954840" y="5226120"/>
            <a:ext cx="900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sGoth BT"/>
              </a:rPr>
              <a:t>8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sGoth BT"/>
              </a:rPr>
              <a:t>16.3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8167680" y="2006640"/>
            <a:ext cx="14335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NewsGoth BT"/>
              </a:rPr>
              <a:t>CAG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NewsGoth BT"/>
              </a:rPr>
              <a:t>2000-20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474760" y="2651040"/>
            <a:ext cx="92124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sGoth BT"/>
              </a:rPr>
              <a:t>11.1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8461800" y="3238560"/>
            <a:ext cx="92124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sGoth BT"/>
              </a:rPr>
              <a:t>12.1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8461800" y="3967200"/>
            <a:ext cx="92124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sGoth BT"/>
              </a:rPr>
              <a:t>10.1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8474760" y="5335560"/>
            <a:ext cx="92124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sGoth BT"/>
              </a:rPr>
              <a:t>17.3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947880" y="2063880"/>
            <a:ext cx="23619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NewsGoth BT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NewsGoth BT"/>
              </a:rPr>
              <a:t>million euro</a:t>
            </a:r>
            <a:r>
              <a:rPr b="1" lang="it-IT" sz="2000" spc="-1" strike="noStrike">
                <a:solidFill>
                  <a:srgbClr val="000000"/>
                </a:solidFill>
                <a:latin typeface="NewsGoth BT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914400" y="1863720"/>
            <a:ext cx="9377280" cy="64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933480" y="3041640"/>
            <a:ext cx="8697960" cy="126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939960" y="5126040"/>
            <a:ext cx="870408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977760" y="4508640"/>
            <a:ext cx="2565720" cy="5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cc"/>
                </a:solidFill>
                <a:latin typeface="NewsGoth BT"/>
              </a:rPr>
              <a:t>EBIT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ewsGoth BT"/>
              </a:rPr>
              <a:t>as % of s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924360" y="4495680"/>
            <a:ext cx="1117440" cy="61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sGoth BT"/>
              </a:rPr>
              <a:t>70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sGoth BT"/>
              </a:rPr>
              <a:t>19.8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7066440" y="2620800"/>
            <a:ext cx="61956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sGoth BT"/>
              </a:rPr>
              <a:t>5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494320" y="4543560"/>
            <a:ext cx="900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sGoth BT"/>
              </a:rPr>
              <a:t>8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sGoth BT"/>
              </a:rPr>
              <a:t>21.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461800" y="4678200"/>
            <a:ext cx="92124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sGoth BT"/>
              </a:rPr>
              <a:t>14.3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954840" y="4556160"/>
            <a:ext cx="900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sGoth BT"/>
              </a:rPr>
              <a:t>1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ewsGoth BT"/>
              </a:rPr>
              <a:t>22.2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b4ca"/>
            </a:gs>
            <a:gs pos="50000">
              <a:srgbClr val="ccffff"/>
            </a:gs>
            <a:gs pos="100000">
              <a:srgbClr val="76b4c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762120" y="971640"/>
            <a:ext cx="952488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NewsGoth BT"/>
              </a:rPr>
              <a:t>EVOLUTION OF NET SALES &amp; EBIT  </a:t>
            </a:r>
            <a:endParaRPr b="1" lang="en-US" sz="3000" spc="-1" strike="noStrike">
              <a:solidFill>
                <a:srgbClr val="000000"/>
              </a:solidFill>
              <a:latin typeface="NewsGoth BT"/>
            </a:endParaRPr>
          </a:p>
        </p:txBody>
      </p:sp>
      <p:sp>
        <p:nvSpPr>
          <p:cNvPr id="496" name=""/>
          <p:cNvSpPr/>
          <p:nvPr/>
        </p:nvSpPr>
        <p:spPr>
          <a:xfrm>
            <a:off x="896760" y="1452600"/>
            <a:ext cx="938556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262240" y="1482840"/>
            <a:ext cx="161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ewsGoth BT"/>
              </a:rPr>
              <a:t>(million eur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8" name=""/>
          <p:cNvGraphicFramePr/>
          <p:nvPr/>
        </p:nvGraphicFramePr>
        <p:xfrm>
          <a:off x="2246400" y="1760400"/>
          <a:ext cx="6810120" cy="413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46400" y="1760400"/>
                    <a:ext cx="6810120" cy="413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0" name=""/>
          <p:cNvSpPr/>
          <p:nvPr/>
        </p:nvSpPr>
        <p:spPr>
          <a:xfrm>
            <a:off x="4635360" y="5842080"/>
            <a:ext cx="234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NewsGoth BT"/>
              </a:rPr>
              <a:t>EB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3022560" y="5803920"/>
            <a:ext cx="229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NewsGoth BT"/>
              </a:rPr>
              <a:t>Net S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003640" y="6045120"/>
            <a:ext cx="51912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730600" y="5880240"/>
            <a:ext cx="749160" cy="228600"/>
          </a:xfrm>
          <a:prstGeom prst="rect">
            <a:avLst/>
          </a:prstGeom>
          <a:gradFill rotWithShape="0">
            <a:gsLst>
              <a:gs pos="0">
                <a:srgbClr val="002f5e"/>
              </a:gs>
              <a:gs pos="50000">
                <a:srgbClr val="0066cc"/>
              </a:gs>
              <a:gs pos="100000">
                <a:srgbClr val="002f5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124080" y="2959200"/>
            <a:ext cx="8510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ffff"/>
                </a:solidFill>
                <a:latin typeface="NewsGoth BT"/>
              </a:rPr>
              <a:t>13.1%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5" name=""/>
          <p:cNvGrpSpPr/>
          <p:nvPr/>
        </p:nvGrpSpPr>
        <p:grpSpPr>
          <a:xfrm>
            <a:off x="3149640" y="2540160"/>
            <a:ext cx="851040" cy="368280"/>
            <a:chOff x="3149640" y="2540160"/>
            <a:chExt cx="851040" cy="368280"/>
          </a:xfrm>
        </p:grpSpPr>
        <p:sp>
          <p:nvSpPr>
            <p:cNvPr id="506" name=""/>
            <p:cNvSpPr/>
            <p:nvPr/>
          </p:nvSpPr>
          <p:spPr>
            <a:xfrm flipH="1">
              <a:off x="3305160" y="2581200"/>
              <a:ext cx="524160" cy="271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149640" y="2540160"/>
              <a:ext cx="85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NewsGoth BT"/>
                </a:rPr>
                <a:t>35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"/>
          <p:cNvGrpSpPr/>
          <p:nvPr/>
        </p:nvGrpSpPr>
        <p:grpSpPr>
          <a:xfrm>
            <a:off x="4216320" y="2451240"/>
            <a:ext cx="761760" cy="368280"/>
            <a:chOff x="4216320" y="2451240"/>
            <a:chExt cx="761760" cy="368280"/>
          </a:xfrm>
        </p:grpSpPr>
        <p:sp>
          <p:nvSpPr>
            <p:cNvPr id="509" name=""/>
            <p:cNvSpPr/>
            <p:nvPr/>
          </p:nvSpPr>
          <p:spPr>
            <a:xfrm flipH="1">
              <a:off x="4320360" y="2500200"/>
              <a:ext cx="531720" cy="253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4216320" y="24512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NewsGoth BT"/>
                </a:rPr>
                <a:t>42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1" name=""/>
          <p:cNvGrpSpPr/>
          <p:nvPr/>
        </p:nvGrpSpPr>
        <p:grpSpPr>
          <a:xfrm>
            <a:off x="5143680" y="2184480"/>
            <a:ext cx="939600" cy="368280"/>
            <a:chOff x="5143680" y="2184480"/>
            <a:chExt cx="939600" cy="368280"/>
          </a:xfrm>
        </p:grpSpPr>
        <p:sp>
          <p:nvSpPr>
            <p:cNvPr id="512" name=""/>
            <p:cNvSpPr/>
            <p:nvPr/>
          </p:nvSpPr>
          <p:spPr>
            <a:xfrm flipH="1">
              <a:off x="5292000" y="2225520"/>
              <a:ext cx="598680" cy="269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143680" y="218448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NewsGoth BT"/>
                </a:rPr>
                <a:t>46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4" name=""/>
          <p:cNvGrpSpPr/>
          <p:nvPr/>
        </p:nvGrpSpPr>
        <p:grpSpPr>
          <a:xfrm>
            <a:off x="6197760" y="1930320"/>
            <a:ext cx="863280" cy="368280"/>
            <a:chOff x="6197760" y="1930320"/>
            <a:chExt cx="863280" cy="368280"/>
          </a:xfrm>
        </p:grpSpPr>
        <p:sp>
          <p:nvSpPr>
            <p:cNvPr id="515" name=""/>
            <p:cNvSpPr/>
            <p:nvPr/>
          </p:nvSpPr>
          <p:spPr>
            <a:xfrm flipH="1">
              <a:off x="6311160" y="1978200"/>
              <a:ext cx="597960" cy="271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197760" y="1930320"/>
              <a:ext cx="86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NewsGoth BT"/>
                </a:rPr>
                <a:t>50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7" name=""/>
          <p:cNvGrpSpPr/>
          <p:nvPr/>
        </p:nvGrpSpPr>
        <p:grpSpPr>
          <a:xfrm>
            <a:off x="7061040" y="1765440"/>
            <a:ext cx="1155600" cy="368280"/>
            <a:chOff x="7061040" y="1765440"/>
            <a:chExt cx="1155600" cy="368280"/>
          </a:xfrm>
        </p:grpSpPr>
        <p:sp>
          <p:nvSpPr>
            <p:cNvPr id="518" name=""/>
            <p:cNvSpPr/>
            <p:nvPr/>
          </p:nvSpPr>
          <p:spPr>
            <a:xfrm flipH="1">
              <a:off x="7337160" y="1801800"/>
              <a:ext cx="598320" cy="2710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7061040" y="1765440"/>
              <a:ext cx="1155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NewsGoth BT"/>
                </a:rPr>
                <a:t>54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0" name=""/>
          <p:cNvSpPr/>
          <p:nvPr/>
        </p:nvSpPr>
        <p:spPr>
          <a:xfrm>
            <a:off x="4114800" y="2921040"/>
            <a:ext cx="901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ffff"/>
                </a:solidFill>
                <a:latin typeface="NewsGoth BT"/>
              </a:rPr>
              <a:t>13.5%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5092560" y="2806560"/>
            <a:ext cx="9907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ffff"/>
                </a:solidFill>
                <a:latin typeface="NewsGoth BT"/>
              </a:rPr>
              <a:t>14.1%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146640" y="2629080"/>
            <a:ext cx="901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ffff"/>
                </a:solidFill>
                <a:latin typeface="NewsGoth BT"/>
              </a:rPr>
              <a:t>15.2%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7175520" y="2425680"/>
            <a:ext cx="901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ffff"/>
                </a:solidFill>
                <a:latin typeface="NewsGoth BT"/>
              </a:rPr>
              <a:t>16.3%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048120" y="3543480"/>
            <a:ext cx="8506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ffff"/>
                </a:solidFill>
                <a:latin typeface="NewsGoth BT"/>
              </a:rPr>
              <a:t>10.4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4127400" y="3467160"/>
            <a:ext cx="8510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ffff"/>
                </a:solidFill>
                <a:latin typeface="NewsGoth BT"/>
              </a:rPr>
              <a:t>11.0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5194440" y="3301920"/>
            <a:ext cx="8506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ffff"/>
                </a:solidFill>
                <a:latin typeface="NewsGoth BT"/>
              </a:rPr>
              <a:t>12.1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6210360" y="3086280"/>
            <a:ext cx="8506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ffff"/>
                </a:solidFill>
                <a:latin typeface="NewsGoth BT"/>
              </a:rPr>
              <a:t>13.0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6692760" y="5854680"/>
            <a:ext cx="234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NewsGoth BT"/>
              </a:rPr>
              <a:t>EBIT </a:t>
            </a:r>
            <a:r>
              <a:rPr b="1" lang="en-US" sz="1600" spc="-1" strike="noStrike">
                <a:solidFill>
                  <a:srgbClr val="ffffff"/>
                </a:solidFill>
                <a:latin typeface="NewsGoth BT"/>
              </a:rPr>
              <a:t>prior targ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456240" y="6059520"/>
            <a:ext cx="519120" cy="1440"/>
          </a:xfrm>
          <a:prstGeom prst="line">
            <a:avLst/>
          </a:prstGeom>
          <a:ln w="2556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b4ca"/>
            </a:gs>
            <a:gs pos="50000">
              <a:srgbClr val="ccffff"/>
            </a:gs>
            <a:gs pos="100000">
              <a:srgbClr val="76b4c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4222800" y="1812960"/>
            <a:ext cx="1779480" cy="4116240"/>
          </a:xfrm>
          <a:prstGeom prst="rect">
            <a:avLst/>
          </a:prstGeom>
          <a:gradFill rotWithShape="0">
            <a:gsLst>
              <a:gs pos="0">
                <a:srgbClr val="76b4ca"/>
              </a:gs>
              <a:gs pos="100000">
                <a:srgbClr val="cc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cc00"/>
              </a:buClr>
              <a:buSzPct val="120000"/>
              <a:buFont typeface="CommonBullet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762120" y="694800"/>
            <a:ext cx="8921520" cy="12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NewsGoth BT"/>
              </a:rPr>
              <a:t>RECORDATI IN 2004</a:t>
            </a:r>
            <a:endParaRPr b="1" lang="en-US" sz="2800" spc="-1" strike="noStrike">
              <a:solidFill>
                <a:srgbClr val="000000"/>
              </a:solidFill>
              <a:latin typeface="NewsGoth BT"/>
            </a:endParaRPr>
          </a:p>
        </p:txBody>
      </p:sp>
      <p:sp>
        <p:nvSpPr>
          <p:cNvPr id="532" name=""/>
          <p:cNvSpPr/>
          <p:nvPr/>
        </p:nvSpPr>
        <p:spPr>
          <a:xfrm>
            <a:off x="4978440" y="2506680"/>
            <a:ext cx="409680" cy="27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246560" y="1862280"/>
            <a:ext cx="174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NewsGoth BT"/>
              </a:rPr>
              <a:t>20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280200" y="1812960"/>
            <a:ext cx="1779480" cy="4116240"/>
          </a:xfrm>
          <a:prstGeom prst="rect">
            <a:avLst/>
          </a:prstGeom>
          <a:gradFill rotWithShape="0">
            <a:gsLst>
              <a:gs pos="0">
                <a:srgbClr val="76b4ca"/>
              </a:gs>
              <a:gs pos="100000">
                <a:srgbClr val="cc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cc00"/>
              </a:buClr>
              <a:buSzPct val="120000"/>
              <a:buFont typeface="CommonBullet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294600" y="1862280"/>
            <a:ext cx="1752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NewsGoth BT"/>
              </a:rPr>
              <a:t>200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8339040" y="1825560"/>
            <a:ext cx="1676520" cy="4103640"/>
          </a:xfrm>
          <a:prstGeom prst="rect">
            <a:avLst/>
          </a:prstGeom>
          <a:gradFill rotWithShape="0">
            <a:gsLst>
              <a:gs pos="0">
                <a:srgbClr val="b7b7b7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cc00"/>
              </a:buClr>
              <a:buSzPct val="120000"/>
              <a:buFont typeface="CommonBullet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953640" y="3962520"/>
            <a:ext cx="354420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sGoth BT"/>
              </a:rPr>
              <a:t>Pharmaceutical Chemic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861240" y="2502000"/>
            <a:ext cx="617400" cy="27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8402760" y="1863720"/>
            <a:ext cx="154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NewsGoth BT"/>
              </a:rPr>
              <a:t>CAG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226040" y="2671920"/>
            <a:ext cx="176364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sGoth BT"/>
              </a:rPr>
              <a:t>35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6866640" y="2671920"/>
            <a:ext cx="61956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sGoth BT"/>
              </a:rPr>
              <a:t>5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6869880" y="3333600"/>
            <a:ext cx="61956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sGoth BT"/>
              </a:rPr>
              <a:t>43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226040" y="3333600"/>
            <a:ext cx="176364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sGoth BT"/>
              </a:rPr>
              <a:t>26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291360" y="4761000"/>
            <a:ext cx="177300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sGoth BT"/>
              </a:rPr>
              <a:t>2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8722440" y="2671920"/>
            <a:ext cx="92124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sGoth BT"/>
              </a:rPr>
              <a:t>11.1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8720640" y="3333600"/>
            <a:ext cx="92124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sGoth BT"/>
              </a:rPr>
              <a:t>12.6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8352000" y="4748040"/>
            <a:ext cx="165240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sGoth BT"/>
              </a:rPr>
              <a:t>8.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4226040" y="4761000"/>
            <a:ext cx="177624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sGoth BT"/>
              </a:rPr>
              <a:t>15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6280200" y="5448240"/>
            <a:ext cx="176040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sGoth BT"/>
              </a:rPr>
              <a:t>3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4226040" y="5448240"/>
            <a:ext cx="177624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sGoth BT"/>
              </a:rPr>
              <a:t>2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987480" y="2346480"/>
            <a:ext cx="9023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1025640" y="2654280"/>
            <a:ext cx="22334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NewsGoth BT"/>
              </a:rPr>
              <a:t>Net S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970200" y="5454720"/>
            <a:ext cx="222732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sGoth BT"/>
              </a:rPr>
              <a:t>Other Count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987840" y="4767120"/>
            <a:ext cx="76608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sGoth BT"/>
              </a:rPr>
              <a:t>Ita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982800" y="4552920"/>
            <a:ext cx="9042120" cy="126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977760" y="3301920"/>
            <a:ext cx="229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sGoth BT"/>
              </a:rPr>
              <a:t>Pharmaceutic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982800" y="5924520"/>
            <a:ext cx="9042120" cy="126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4227480" y="3943440"/>
            <a:ext cx="175104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sGoth BT"/>
              </a:rPr>
              <a:t>8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8358120" y="3943440"/>
            <a:ext cx="165276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sGoth BT"/>
              </a:rPr>
              <a:t>6.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6288120" y="3956040"/>
            <a:ext cx="177336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sGoth BT"/>
              </a:rPr>
              <a:t>10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8345520" y="5442120"/>
            <a:ext cx="166536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sGoth BT"/>
              </a:rPr>
              <a:t>12.9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896760" y="1503360"/>
            <a:ext cx="938556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995760" y="1841400"/>
            <a:ext cx="189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sGoth BT"/>
              </a:rPr>
              <a:t>(million euro</a:t>
            </a:r>
            <a:r>
              <a:rPr b="1" lang="it-IT" sz="2000" spc="-1" strike="noStrike">
                <a:solidFill>
                  <a:srgbClr val="000000"/>
                </a:solidFill>
                <a:latin typeface="NewsGoth BT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976320" y="3174840"/>
            <a:ext cx="9042480" cy="129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b4ca"/>
            </a:gs>
            <a:gs pos="50000">
              <a:srgbClr val="ccffff"/>
            </a:gs>
            <a:gs pos="100000">
              <a:srgbClr val="76b4c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2120" y="898560"/>
            <a:ext cx="952488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NewsGoth BT"/>
              </a:rPr>
              <a:t>KEY TRENDS IN H1 2001</a:t>
            </a:r>
            <a:endParaRPr b="1" lang="en-US" sz="3000" spc="-1" strike="noStrike">
              <a:solidFill>
                <a:srgbClr val="000000"/>
              </a:solidFill>
              <a:latin typeface="NewsGoth B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66920" y="2558520"/>
            <a:ext cx="802008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1000" indent="-351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NewsGoth BT"/>
              <a:buChar char="•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NewsGoth BT"/>
              </a:rPr>
              <a:t>International pharmaceutical sales up 141.7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-351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NewsGoth BT"/>
              <a:buChar char="•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NewsGoth BT"/>
              </a:rPr>
              <a:t>Successful roll-out of lercanidip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-351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NewsGoth BT"/>
              <a:buChar char="•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NewsGoth BT"/>
              </a:rPr>
              <a:t>Double digit organic growth contin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-351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NewsGoth BT"/>
              <a:buChar char="•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NewsGoth BT"/>
              </a:rPr>
              <a:t>Further increase in profit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NewsGoth BT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NewsGoth BT"/>
              </a:rPr>
              <a:t>EBITDA</a:t>
            </a:r>
            <a:r>
              <a:rPr b="1" lang="en-US" sz="2400" spc="-1" strike="noStrike">
                <a:solidFill>
                  <a:srgbClr val="000000"/>
                </a:solidFill>
                <a:latin typeface="NewsGoth BT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NewsGoth BT"/>
              </a:rPr>
              <a:t>+68.2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NewsGoth BT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NewsGoth BT"/>
              </a:rPr>
              <a:t>EBIT</a:t>
            </a:r>
            <a:r>
              <a:rPr b="1" lang="en-US" sz="2400" spc="-1" strike="noStrike">
                <a:solidFill>
                  <a:srgbClr val="000000"/>
                </a:solidFill>
                <a:latin typeface="NewsGoth BT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NewsGoth BT"/>
              </a:rPr>
              <a:t>+64.8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-351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NewsGoth BT"/>
              <a:buChar char="•"/>
              <a:tabLst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NewsGoth BT"/>
              </a:rPr>
              <a:t>Debt/equity ratio reduced to 0.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39880" y="1692360"/>
            <a:ext cx="94424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b4ca"/>
            </a:gs>
            <a:gs pos="50000">
              <a:srgbClr val="ccffff"/>
            </a:gs>
            <a:gs pos="100000">
              <a:srgbClr val="76b4c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809880" y="1488960"/>
            <a:ext cx="1940040" cy="4403880"/>
          </a:xfrm>
          <a:prstGeom prst="rect">
            <a:avLst/>
          </a:prstGeom>
          <a:gradFill rotWithShape="0">
            <a:gsLst>
              <a:gs pos="0">
                <a:srgbClr val="77aec9"/>
              </a:gs>
              <a:gs pos="100000">
                <a:srgbClr val="cc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cc00"/>
              </a:buClr>
              <a:buSzPct val="120000"/>
              <a:buFont typeface="CommonBullet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32320" y="2082960"/>
            <a:ext cx="7020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NewsGoth BT"/>
              </a:rPr>
              <a:t>156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404600" y="2484360"/>
            <a:ext cx="752400" cy="5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NewsGoth BT"/>
              </a:rPr>
              <a:t>90.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ewsGoth BT"/>
              </a:rPr>
              <a:t>57.7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406040" y="4267080"/>
            <a:ext cx="7524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NewsGoth BT"/>
              </a:rPr>
              <a:t>18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ewsGoth BT"/>
              </a:rPr>
              <a:t>12.0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406040" y="4867200"/>
            <a:ext cx="7524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NewsGoth BT"/>
              </a:rPr>
              <a:t>19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ewsGoth BT"/>
              </a:rPr>
              <a:t>12.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461480" y="5400720"/>
            <a:ext cx="6364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NewsGoth BT"/>
              </a:rPr>
              <a:t>12.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ewsGoth BT"/>
              </a:rPr>
              <a:t>7.8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407840" y="3710160"/>
            <a:ext cx="7524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NewsGoth BT"/>
              </a:rPr>
              <a:t>28.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ewsGoth BT"/>
              </a:rPr>
              <a:t>17.9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179960" y="1504800"/>
            <a:ext cx="121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NewsGoth BT"/>
              </a:rPr>
              <a:t>H1 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406040" y="3102120"/>
            <a:ext cx="7524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NewsGoth BT"/>
              </a:rPr>
              <a:t>17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ewsGoth BT"/>
              </a:rPr>
              <a:t>11.2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956200" y="1495440"/>
            <a:ext cx="1905120" cy="4397400"/>
          </a:xfrm>
          <a:prstGeom prst="rect">
            <a:avLst/>
          </a:prstGeom>
          <a:gradFill rotWithShape="0">
            <a:gsLst>
              <a:gs pos="0">
                <a:srgbClr val="77aec9"/>
              </a:gs>
              <a:gs pos="100000">
                <a:srgbClr val="cc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cc00"/>
              </a:buClr>
              <a:buSzPct val="120000"/>
              <a:buFont typeface="CommonBullet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559560" y="2082960"/>
            <a:ext cx="7020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NewsGoth BT"/>
              </a:rPr>
              <a:t>213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530040" y="2484360"/>
            <a:ext cx="752400" cy="5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NewsGoth BT"/>
              </a:rPr>
              <a:t>126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ewsGoth BT"/>
              </a:rPr>
              <a:t>59.1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531840" y="4267080"/>
            <a:ext cx="7524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NewsGoth BT"/>
              </a:rPr>
              <a:t>31.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ewsGoth BT"/>
              </a:rPr>
              <a:t>14.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536520" y="4867200"/>
            <a:ext cx="7524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NewsGoth BT"/>
              </a:rPr>
              <a:t>27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ewsGoth BT"/>
              </a:rPr>
              <a:t>12.9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590520" y="5400720"/>
            <a:ext cx="6364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NewsGoth BT"/>
              </a:rPr>
              <a:t>17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ewsGoth BT"/>
              </a:rPr>
              <a:t>8.2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536520" y="3703680"/>
            <a:ext cx="7524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NewsGoth BT"/>
              </a:rPr>
              <a:t>47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ewsGoth BT"/>
              </a:rPr>
              <a:t>22.0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288120" y="1504800"/>
            <a:ext cx="127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NewsGoth BT"/>
              </a:rPr>
              <a:t>H1 2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588720" y="3102120"/>
            <a:ext cx="6364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NewsGoth BT"/>
              </a:rPr>
              <a:t>15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ewsGoth BT"/>
              </a:rPr>
              <a:t>7.1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107200" y="1492200"/>
            <a:ext cx="1827360" cy="4378320"/>
          </a:xfrm>
          <a:prstGeom prst="rect">
            <a:avLst/>
          </a:prstGeom>
          <a:gradFill rotWithShape="0">
            <a:gsLst>
              <a:gs pos="0">
                <a:srgbClr val="bdbdbd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cc00"/>
              </a:buClr>
              <a:buSzPct val="120000"/>
              <a:buFont typeface="CommonBullet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614440" y="2082960"/>
            <a:ext cx="7524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ewsGoth BT"/>
              </a:rPr>
              <a:t>36.4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616240" y="2602080"/>
            <a:ext cx="7524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ewsGoth BT"/>
              </a:rPr>
              <a:t>39.7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461440" y="4363920"/>
            <a:ext cx="105552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ewsGoth BT"/>
              </a:rPr>
              <a:t>64.8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616240" y="4964040"/>
            <a:ext cx="7524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ewsGoth BT"/>
              </a:rPr>
              <a:t>41.1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616240" y="5497560"/>
            <a:ext cx="7524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ewsGoth BT"/>
              </a:rPr>
              <a:t>44.3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614440" y="3768840"/>
            <a:ext cx="7524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ewsGoth BT"/>
              </a:rPr>
              <a:t>68.2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210520" y="1504800"/>
            <a:ext cx="155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NewsGoth BT"/>
              </a:rPr>
              <a:t>Change 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553600" y="3198960"/>
            <a:ext cx="8740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ewsGoth BT"/>
              </a:rPr>
              <a:t>(13.8)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01720" y="932040"/>
            <a:ext cx="948528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NewsGoth BT"/>
              </a:rPr>
              <a:t>RESULTS H1 200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21520" y="2070000"/>
            <a:ext cx="124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NewsGoth BT"/>
              </a:rPr>
              <a:t>Net S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38800" y="2486160"/>
            <a:ext cx="15415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NewsGoth BT"/>
              </a:rPr>
              <a:t>Gross Prof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ewsGoth BT"/>
              </a:rPr>
              <a:t>as % of s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15840" y="2457360"/>
            <a:ext cx="90234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15840" y="4773600"/>
            <a:ext cx="90234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5840" y="5353200"/>
            <a:ext cx="90234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5840" y="5883120"/>
            <a:ext cx="9023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28800" y="1936800"/>
            <a:ext cx="90234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19080" y="3614760"/>
            <a:ext cx="902016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15840" y="3035160"/>
            <a:ext cx="90234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38800" y="4229280"/>
            <a:ext cx="15415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NewsGoth BT"/>
              </a:rPr>
              <a:t>EBIT</a:t>
            </a:r>
            <a:r>
              <a:rPr b="1" lang="en-US" sz="1800" spc="-1" strike="noStrike">
                <a:solidFill>
                  <a:srgbClr val="ffff00"/>
                </a:solidFill>
                <a:latin typeface="NewsGoth B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ewsGoth BT"/>
              </a:rPr>
              <a:t>as % of s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85880" y="4809960"/>
            <a:ext cx="18511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NewsGoth BT"/>
              </a:rPr>
              <a:t>Pretax Inco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ewsGoth BT"/>
              </a:rPr>
              <a:t>as % of s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38800" y="5354640"/>
            <a:ext cx="15415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NewsGoth BT"/>
              </a:rPr>
              <a:t>Net Inco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ewsGoth BT"/>
              </a:rPr>
              <a:t>as % of s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54640" y="3666960"/>
            <a:ext cx="154152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NewsGoth BT"/>
              </a:rPr>
              <a:t>EBIT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ewsGoth BT"/>
              </a:rPr>
              <a:t>as % of s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38080" y="1494000"/>
            <a:ext cx="23623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sGoth BT"/>
              </a:rPr>
              <a:t>(million eur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48520" y="3073320"/>
            <a:ext cx="17884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NewsGoth BT"/>
              </a:rPr>
              <a:t>R&amp;D Expen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ewsGoth BT"/>
              </a:rPr>
              <a:t>as % of s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19080" y="4194000"/>
            <a:ext cx="902016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01800" y="1371600"/>
            <a:ext cx="93852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b4ca"/>
            </a:gs>
            <a:gs pos="50000">
              <a:srgbClr val="ccffff"/>
            </a:gs>
            <a:gs pos="100000">
              <a:srgbClr val="76b4c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8251920" y="1673280"/>
            <a:ext cx="1676160" cy="41799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cc00"/>
              </a:buClr>
              <a:buSzPct val="120000"/>
              <a:buFont typeface="CommonBullet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331120" y="1711440"/>
            <a:ext cx="154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NewsGoth BT"/>
              </a:rPr>
              <a:t>Change %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727120" y="2665440"/>
            <a:ext cx="76896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NewsGoth BT"/>
              </a:rPr>
              <a:t>68.9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727120" y="4281480"/>
            <a:ext cx="76896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NewsGoth BT"/>
              </a:rPr>
              <a:t>44.3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01720" y="1008000"/>
            <a:ext cx="948528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NewsGoth BT"/>
              </a:rPr>
              <a:t>NET INCOM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20880" y="5872320"/>
            <a:ext cx="9023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38080" y="1736640"/>
            <a:ext cx="23623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sGoth BT"/>
              </a:rPr>
              <a:t>(million eur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73000" y="2643120"/>
            <a:ext cx="32893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NewsGoth BT"/>
              </a:rPr>
              <a:t>Net Income from 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06480" y="1504800"/>
            <a:ext cx="93852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65080" y="3349800"/>
            <a:ext cx="35290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NewsGoth BT"/>
              </a:rPr>
              <a:t>Gain from sale of a busi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6640" y="4270320"/>
            <a:ext cx="33336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NewsGoth BT"/>
              </a:rPr>
              <a:t>Net Income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227640" y="1679400"/>
            <a:ext cx="1747800" cy="4179960"/>
          </a:xfrm>
          <a:prstGeom prst="rect">
            <a:avLst/>
          </a:prstGeom>
          <a:gradFill rotWithShape="0">
            <a:gsLst>
              <a:gs pos="0">
                <a:srgbClr val="77aec9"/>
              </a:gs>
              <a:gs pos="100000">
                <a:srgbClr val="cc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cc00"/>
              </a:buClr>
              <a:buSzPct val="120000"/>
              <a:buFont typeface="CommonBullet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178160" y="1666800"/>
            <a:ext cx="1749600" cy="4179960"/>
          </a:xfrm>
          <a:prstGeom prst="rect">
            <a:avLst/>
          </a:prstGeom>
          <a:gradFill rotWithShape="0">
            <a:gsLst>
              <a:gs pos="0">
                <a:srgbClr val="77aec9"/>
              </a:gs>
              <a:gs pos="100000">
                <a:srgbClr val="cc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cc00"/>
              </a:buClr>
              <a:buSzPct val="120000"/>
              <a:buFont typeface="CommonBullet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14400" y="2198520"/>
            <a:ext cx="9023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05040" y="3956040"/>
            <a:ext cx="903276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332400" y="1719360"/>
            <a:ext cx="154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NewsGoth BT"/>
              </a:rPr>
              <a:t>H1 200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255920" y="1719360"/>
            <a:ext cx="154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NewsGoth BT"/>
              </a:rPr>
              <a:t>H1 200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45400" y="2668680"/>
            <a:ext cx="58608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NewsGoth BT"/>
              </a:rPr>
              <a:t>17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5400" y="4284720"/>
            <a:ext cx="58608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NewsGoth BT"/>
              </a:rPr>
              <a:t>17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727520" y="2654280"/>
            <a:ext cx="58608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NewsGoth BT"/>
              </a:rPr>
              <a:t>10.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813200" y="3360600"/>
            <a:ext cx="47016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NewsGoth BT"/>
              </a:rPr>
              <a:t>1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711680" y="4284720"/>
            <a:ext cx="58608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NewsGoth BT"/>
              </a:rPr>
              <a:t>12.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b4ca"/>
            </a:gs>
            <a:gs pos="50000">
              <a:srgbClr val="ccffff"/>
            </a:gs>
            <a:gs pos="100000">
              <a:srgbClr val="76b4c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272280" y="1681200"/>
            <a:ext cx="1773000" cy="4208400"/>
          </a:xfrm>
          <a:prstGeom prst="rect">
            <a:avLst/>
          </a:prstGeom>
          <a:gradFill rotWithShape="0">
            <a:gsLst>
              <a:gs pos="0">
                <a:srgbClr val="77aec9"/>
              </a:gs>
              <a:gs pos="100000">
                <a:srgbClr val="cc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cc00"/>
              </a:buClr>
              <a:buSzPct val="120000"/>
              <a:buFont typeface="CommonBullet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273720" y="1747800"/>
            <a:ext cx="175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NewsGoth BT"/>
              </a:rPr>
              <a:t>H1 2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608880" y="5281560"/>
            <a:ext cx="110016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NewsGoth BT"/>
              </a:rPr>
              <a:t>126.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NewsGoth BT"/>
              </a:rPr>
              <a:t>59.4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280040" y="1681200"/>
            <a:ext cx="1803240" cy="4179960"/>
          </a:xfrm>
          <a:prstGeom prst="rect">
            <a:avLst/>
          </a:prstGeom>
          <a:gradFill rotWithShape="0">
            <a:gsLst>
              <a:gs pos="0">
                <a:srgbClr val="77aec9"/>
              </a:gs>
              <a:gs pos="100000">
                <a:srgbClr val="cc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cc00"/>
              </a:buClr>
              <a:buSzPct val="120000"/>
              <a:buFont typeface="CommonBullet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282920" y="1747800"/>
            <a:ext cx="179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NewsGoth BT"/>
              </a:rPr>
              <a:t>H1 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253360" y="1681200"/>
            <a:ext cx="1689120" cy="4186080"/>
          </a:xfrm>
          <a:prstGeom prst="rect">
            <a:avLst/>
          </a:prstGeom>
          <a:gradFill rotWithShape="0">
            <a:gsLst>
              <a:gs pos="0">
                <a:srgbClr val="d2d2d2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cc00"/>
              </a:buClr>
              <a:buSzPct val="120000"/>
              <a:buFont typeface="CommonBullet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312040" y="1747800"/>
            <a:ext cx="157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NewsGoth BT"/>
              </a:rPr>
              <a:t>Change 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01720" y="1008000"/>
            <a:ext cx="948528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NewsGoth BT"/>
              </a:rPr>
              <a:t>COMPOSITION OF SAL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920880" y="5872320"/>
            <a:ext cx="9023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38080" y="1736640"/>
            <a:ext cx="23623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sGoth BT"/>
              </a:rPr>
              <a:t>(million eur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006560" y="2435400"/>
            <a:ext cx="26686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NewsGoth BT"/>
              </a:rPr>
              <a:t>PHARMACEUTIC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630680" y="2357280"/>
            <a:ext cx="110016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NewsGoth BT"/>
              </a:rPr>
              <a:t>112.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NewsGoth BT"/>
              </a:rPr>
              <a:t>71.6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547120" y="5380200"/>
            <a:ext cx="110016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NewsGoth BT"/>
              </a:rPr>
              <a:t>66.2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06480" y="1504800"/>
            <a:ext cx="93852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76320" y="3056040"/>
            <a:ext cx="27939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NewsGoth BT"/>
              </a:rPr>
              <a:t>PHARMACEUTICAL CHEMIC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76320" y="3902040"/>
            <a:ext cx="9460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NewsGoth BT"/>
              </a:rPr>
              <a:t>TO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976320" y="4641840"/>
            <a:ext cx="9842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NewsGoth BT"/>
              </a:rPr>
              <a:t>ITA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76320" y="5364000"/>
            <a:ext cx="21463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NewsGoth BT"/>
              </a:rPr>
              <a:t>INTERNAT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30680" y="3062160"/>
            <a:ext cx="110016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NewsGoth BT"/>
              </a:rPr>
              <a:t>44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NewsGoth BT"/>
              </a:rPr>
              <a:t>28.4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630680" y="3824280"/>
            <a:ext cx="110016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NewsGoth BT"/>
              </a:rPr>
              <a:t>156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NewsGoth BT"/>
              </a:rPr>
              <a:t>100.0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630680" y="4529160"/>
            <a:ext cx="110016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NewsGoth BT"/>
              </a:rPr>
              <a:t>8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NewsGoth BT"/>
              </a:rPr>
              <a:t>51.3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630680" y="5291280"/>
            <a:ext cx="110016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NewsGoth BT"/>
              </a:rPr>
              <a:t>76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NewsGoth BT"/>
              </a:rPr>
              <a:t>48.7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11160" y="3657600"/>
            <a:ext cx="90331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39960" y="4400640"/>
            <a:ext cx="90043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20880" y="2233440"/>
            <a:ext cx="9023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608880" y="2367000"/>
            <a:ext cx="110016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NewsGoth BT"/>
              </a:rPr>
              <a:t>168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NewsGoth BT"/>
              </a:rPr>
              <a:t>78.9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08880" y="3095640"/>
            <a:ext cx="110016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NewsGoth BT"/>
              </a:rPr>
              <a:t>45.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NewsGoth BT"/>
              </a:rPr>
              <a:t>21.1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608880" y="3824280"/>
            <a:ext cx="110016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NewsGoth BT"/>
              </a:rPr>
              <a:t>213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NewsGoth BT"/>
              </a:rPr>
              <a:t>100.0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608880" y="4552920"/>
            <a:ext cx="110016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NewsGoth BT"/>
              </a:rPr>
              <a:t>86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NewsGoth BT"/>
              </a:rPr>
              <a:t>40.6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547120" y="2465280"/>
            <a:ext cx="110016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NewsGoth BT"/>
              </a:rPr>
              <a:t>50.3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547120" y="3193920"/>
            <a:ext cx="110016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NewsGoth BT"/>
              </a:rPr>
              <a:t>1.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547120" y="3922560"/>
            <a:ext cx="110016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NewsGoth BT"/>
              </a:rPr>
              <a:t>36.4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8547120" y="4651200"/>
            <a:ext cx="110016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NewsGoth BT"/>
              </a:rPr>
              <a:t>8.1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b4ca"/>
            </a:gs>
            <a:gs pos="50000">
              <a:srgbClr val="ccffff"/>
            </a:gs>
            <a:gs pos="100000">
              <a:srgbClr val="76b4c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6272280" y="1795320"/>
            <a:ext cx="1773000" cy="4208760"/>
          </a:xfrm>
          <a:prstGeom prst="rect">
            <a:avLst/>
          </a:prstGeom>
          <a:gradFill rotWithShape="0">
            <a:gsLst>
              <a:gs pos="0">
                <a:srgbClr val="77aec9"/>
              </a:gs>
              <a:gs pos="100000">
                <a:srgbClr val="cc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cc00"/>
              </a:buClr>
              <a:buSzPct val="120000"/>
              <a:buFont typeface="CommonBullet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273720" y="1862280"/>
            <a:ext cx="178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NewsGoth BT"/>
              </a:rPr>
              <a:t>H1 2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280040" y="1795320"/>
            <a:ext cx="1803240" cy="4199040"/>
          </a:xfrm>
          <a:prstGeom prst="rect">
            <a:avLst/>
          </a:prstGeom>
          <a:gradFill rotWithShape="0">
            <a:gsLst>
              <a:gs pos="0">
                <a:srgbClr val="77aec9"/>
              </a:gs>
              <a:gs pos="100000">
                <a:srgbClr val="cc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cc00"/>
              </a:buClr>
              <a:buSzPct val="120000"/>
              <a:buFont typeface="CommonBullet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282920" y="1862280"/>
            <a:ext cx="179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NewsGoth BT"/>
              </a:rPr>
              <a:t>H1 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253360" y="1795320"/>
            <a:ext cx="1689120" cy="4186440"/>
          </a:xfrm>
          <a:prstGeom prst="rect">
            <a:avLst/>
          </a:prstGeom>
          <a:gradFill rotWithShape="0">
            <a:gsLst>
              <a:gs pos="0">
                <a:srgbClr val="a9a9a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ffcc00"/>
              </a:buClr>
              <a:buSzPct val="120000"/>
              <a:buFont typeface="CommonBullet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312040" y="1862280"/>
            <a:ext cx="157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NewsGoth BT"/>
              </a:rPr>
              <a:t>Change 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911160" y="5986440"/>
            <a:ext cx="9023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930240" y="4773600"/>
            <a:ext cx="90043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30240" y="5380200"/>
            <a:ext cx="90043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911160" y="2347920"/>
            <a:ext cx="90234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774480" y="2397240"/>
            <a:ext cx="7689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NewsGoth BT"/>
              </a:rPr>
              <a:t>81.3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NewsGoth BT"/>
              </a:rPr>
              <a:t>48.3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774480" y="3048120"/>
            <a:ext cx="76896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NewsGoth BT"/>
              </a:rPr>
              <a:t>44.5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NewsGoth BT"/>
              </a:rPr>
              <a:t>26.4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774480" y="4249800"/>
            <a:ext cx="76896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NewsGoth BT"/>
              </a:rPr>
              <a:t>32.5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NewsGoth BT"/>
              </a:rPr>
              <a:t>19.3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772680" y="4851360"/>
            <a:ext cx="76896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NewsGoth BT"/>
              </a:rPr>
              <a:t>87.2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NewsGoth BT"/>
              </a:rPr>
              <a:t>51.7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656400" y="5452920"/>
            <a:ext cx="100656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NewsGoth BT"/>
              </a:rPr>
              <a:t>168.5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NewsGoth BT"/>
              </a:rPr>
              <a:t>100.0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831720" y="3649680"/>
            <a:ext cx="6530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NewsGoth BT"/>
              </a:rPr>
              <a:t>10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NewsGoth BT"/>
              </a:rPr>
              <a:t>6.0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796280" y="2395440"/>
            <a:ext cx="7689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NewsGoth BT"/>
              </a:rPr>
              <a:t>76.0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NewsGoth BT"/>
              </a:rPr>
              <a:t>67.8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798080" y="3046320"/>
            <a:ext cx="76896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NewsGoth BT"/>
              </a:rPr>
              <a:t>12.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NewsGoth BT"/>
              </a:rPr>
              <a:t>10.8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8080" y="4246560"/>
            <a:ext cx="76896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NewsGoth BT"/>
              </a:rPr>
              <a:t>15.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NewsGoth BT"/>
              </a:rPr>
              <a:t>13.7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796280" y="4846680"/>
            <a:ext cx="76896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NewsGoth BT"/>
              </a:rPr>
              <a:t>36.1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NewsGoth BT"/>
              </a:rPr>
              <a:t>32.2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739400" y="5446800"/>
            <a:ext cx="8848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NewsGoth BT"/>
              </a:rPr>
              <a:t>112.1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NewsGoth BT"/>
              </a:rPr>
              <a:t>100.0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853520" y="3646440"/>
            <a:ext cx="6530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NewsGoth BT"/>
              </a:rPr>
              <a:t>8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NewsGoth BT"/>
              </a:rPr>
              <a:t>7.7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8771760" y="2496960"/>
            <a:ext cx="6530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NewsGoth BT"/>
              </a:rPr>
              <a:t>7.0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658720" y="3119400"/>
            <a:ext cx="8848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NewsGoth BT"/>
              </a:rPr>
              <a:t>268.3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636040" y="4340160"/>
            <a:ext cx="92232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NewsGoth BT"/>
              </a:rPr>
              <a:t>111.4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657280" y="4932360"/>
            <a:ext cx="8848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NewsGoth BT"/>
              </a:rPr>
              <a:t>141.7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715960" y="5516640"/>
            <a:ext cx="76896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NewsGoth BT"/>
              </a:rPr>
              <a:t>50.3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715960" y="3738600"/>
            <a:ext cx="76896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NewsGoth BT"/>
              </a:rPr>
              <a:t>18.3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25400" y="987480"/>
            <a:ext cx="956160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NewsGoth BT"/>
              </a:rPr>
              <a:t>COMPOSITION OF PHARMACEUTICAL SAL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911880" y="2505240"/>
            <a:ext cx="2678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NewsGoth BT"/>
              </a:rPr>
              <a:t>Pharmaceuticals Ita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949320" y="1712880"/>
            <a:ext cx="933768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35280" y="3117960"/>
            <a:ext cx="29239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NewsGoth BT"/>
              </a:rPr>
              <a:t>Pharmaceuticals Fr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903960" y="4324320"/>
            <a:ext cx="28216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NewsGoth BT"/>
              </a:rPr>
              <a:t>International license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856080" y="4917960"/>
            <a:ext cx="36921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NewsGoth BT"/>
              </a:rPr>
              <a:t>International pharmaceutic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049040" y="5532480"/>
            <a:ext cx="32043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NewsGoth BT"/>
              </a:rPr>
              <a:t>TOTAL PHARMACEUTIC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941760" y="3730680"/>
            <a:ext cx="27838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NewsGoth BT"/>
              </a:rPr>
              <a:t>Pharmaceuticals Sp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838080" y="1812960"/>
            <a:ext cx="23623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NewsGoth BT"/>
              </a:rPr>
              <a:t>(million eur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936720" y="2887560"/>
            <a:ext cx="90043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b4ca"/>
            </a:gs>
            <a:gs pos="50000">
              <a:srgbClr val="ccffff"/>
            </a:gs>
            <a:gs pos="100000">
              <a:srgbClr val="76b4c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762120" y="739440"/>
            <a:ext cx="8921520" cy="6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4920"/>
                <a:tab algn="l" pos="1870200"/>
                <a:tab algn="l" pos="2805120"/>
                <a:tab algn="l" pos="3740040"/>
                <a:tab algn="l" pos="4675320"/>
                <a:tab algn="l" pos="5610240"/>
                <a:tab algn="l" pos="6545160"/>
                <a:tab algn="l" pos="7480440"/>
                <a:tab algn="l" pos="8415360"/>
                <a:tab algn="l" pos="9350280"/>
                <a:tab algn="l" pos="102855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NewsGoth BT"/>
              </a:rPr>
              <a:t>MAIN PRODUCTS</a:t>
            </a:r>
            <a:endParaRPr b="1" lang="en-US" sz="2800" spc="-1" strike="noStrike">
              <a:solidFill>
                <a:srgbClr val="000000"/>
              </a:solidFill>
              <a:latin typeface="NewsGoth BT"/>
            </a:endParaRPr>
          </a:p>
        </p:txBody>
      </p:sp>
      <p:sp>
        <p:nvSpPr>
          <p:cNvPr id="214" name=""/>
          <p:cNvSpPr/>
          <p:nvPr/>
        </p:nvSpPr>
        <p:spPr>
          <a:xfrm>
            <a:off x="966960" y="1351800"/>
            <a:ext cx="9048600" cy="398880"/>
          </a:xfrm>
          <a:prstGeom prst="rect">
            <a:avLst/>
          </a:prstGeom>
          <a:gradFill rotWithShape="0">
            <a:gsLst>
              <a:gs pos="0">
                <a:srgbClr val="76b4ca"/>
              </a:gs>
              <a:gs pos="50000">
                <a:srgbClr val="ccffff"/>
              </a:gs>
              <a:gs pos="100000">
                <a:srgbClr val="76b4c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NewsGoth BT"/>
              </a:rPr>
              <a:t>Breakdown of 1H 2001 pharmaceutical s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380880" y="1733400"/>
          <a:ext cx="9048960" cy="457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733400"/>
                    <a:ext cx="9048960" cy="457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"/>
          <p:cNvSpPr/>
          <p:nvPr/>
        </p:nvSpPr>
        <p:spPr>
          <a:xfrm>
            <a:off x="8226360" y="3016080"/>
            <a:ext cx="74520" cy="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363880" y="2614680"/>
            <a:ext cx="1206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NewsGoth BT"/>
              </a:rPr>
              <a:t>Zanidip 17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ewsGoth BT"/>
              </a:rPr>
              <a:t>(lercanidipine</a:t>
            </a:r>
            <a:r>
              <a:rPr b="1" lang="en-US" sz="1200" spc="-1" strike="noStrike">
                <a:solidFill>
                  <a:srgbClr val="000000"/>
                </a:solidFill>
                <a:latin typeface="NewsGoth B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01680" y="3273480"/>
            <a:ext cx="109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NewsGoth BT"/>
              </a:rPr>
              <a:t>Tora-Dol 7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8465400" y="3622680"/>
            <a:ext cx="107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NewsGoth BT"/>
              </a:rPr>
              <a:t>Elopram 7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880240" y="38926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NewsGoth BT"/>
              </a:rPr>
              <a:t>Isocef 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442360" y="4041720"/>
            <a:ext cx="1195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NewsGoth BT"/>
              </a:rPr>
              <a:t>Hexa line 5%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ewsGoth BT"/>
              </a:rPr>
              <a:t>(biclotimol</a:t>
            </a:r>
            <a:r>
              <a:rPr b="1" lang="en-US" sz="1200" spc="-1" strike="noStrike">
                <a:solidFill>
                  <a:srgbClr val="000000"/>
                </a:solidFill>
                <a:latin typeface="NewsGoth BT"/>
              </a:rPr>
              <a:t>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704560" y="4334040"/>
            <a:ext cx="104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NewsGoth BT"/>
              </a:rPr>
              <a:t>Exomuc 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8452080" y="4575240"/>
            <a:ext cx="132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NewsGoth BT"/>
              </a:rPr>
              <a:t>Neo Codion 4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625720" y="4753080"/>
            <a:ext cx="117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NewsGoth BT"/>
              </a:rPr>
              <a:t>Ulcotenal 4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687120" y="3706920"/>
            <a:ext cx="1310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NewsGoth BT"/>
              </a:rPr>
              <a:t>M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NewsGoth BT"/>
              </a:rPr>
              <a:t>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471160" y="492768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NewsGoth BT"/>
              </a:rPr>
              <a:t>Diezime 3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748480" y="4957920"/>
            <a:ext cx="1015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NewsGoth BT"/>
              </a:rPr>
              <a:t>Urispas 3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ewsGoth BT"/>
              </a:rPr>
              <a:t>(flavoxate</a:t>
            </a:r>
            <a:r>
              <a:rPr b="1" lang="en-US" sz="1200" spc="-1" strike="noStrike">
                <a:solidFill>
                  <a:srgbClr val="000000"/>
                </a:solidFill>
                <a:latin typeface="NewsGoth B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446680" y="5211720"/>
            <a:ext cx="1553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NewsGoth BT"/>
              </a:rPr>
              <a:t>Acequin/quide 3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453880" y="5440320"/>
            <a:ext cx="106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NewsGoth BT"/>
              </a:rPr>
              <a:t>Amodex 2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271120" y="5334120"/>
            <a:ext cx="1873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NewsGoth BT"/>
              </a:rPr>
              <a:t>Lomexin 2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ewsGoth BT"/>
              </a:rPr>
              <a:t>(fenticonazole</a:t>
            </a:r>
            <a:r>
              <a:rPr b="1" lang="en-US" sz="1200" spc="-1" strike="noStrike">
                <a:solidFill>
                  <a:srgbClr val="000000"/>
                </a:solidFill>
                <a:latin typeface="NewsGoth BT"/>
              </a:rPr>
              <a:t>)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6040" y="3490920"/>
            <a:ext cx="151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NewsGoth BT"/>
              </a:rPr>
              <a:t>Other 33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05T16:14:02Z</dcterms:created>
  <dc:creator>Vale</dc:creator>
  <dc:description/>
  <dc:language>en-US</dc:language>
  <cp:lastModifiedBy>Tatschke</cp:lastModifiedBy>
  <cp:lastPrinted>2001-09-26T16:07:08Z</cp:lastPrinted>
  <dcterms:modified xsi:type="dcterms:W3CDTF">2001-09-26T18:05:47Z</dcterms:modified>
  <cp:revision>817</cp:revision>
  <dc:subject/>
  <dc:title> </dc:title>
</cp:coreProperties>
</file>