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288588" cy="6858000"/>
  <p:notesSz cx="669290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739800"/>
            <a:ext cx="892152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Goth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9228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6000" y="758880"/>
            <a:ext cx="943632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4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34740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2BC2-6374-45AB-A89B-CA223FDC9D0E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03160" y="250920"/>
            <a:ext cx="1935360" cy="3078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6880" y="6502320"/>
            <a:ext cx="504720" cy="9540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000" indent="-235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5120" indent="-231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9228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51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5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5C46-A525-496D-9DCF-FA54AB65295A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69680" y="5678640"/>
            <a:ext cx="40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Milan, 28 September</a:t>
            </a:r>
            <a:r>
              <a:rPr b="1" lang="it-IT" sz="2400" spc="-1" strike="noStrike">
                <a:solidFill>
                  <a:srgbClr val="000000"/>
                </a:solidFill>
                <a:latin typeface="NewsGoth BT"/>
              </a:rPr>
              <a:t>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41360" y="3516480"/>
            <a:ext cx="464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wsGoth BT"/>
              </a:rPr>
              <a:t>Business on tr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wsGoth BT"/>
              </a:rPr>
              <a:t>Pipeline fills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6880" y="6502320"/>
            <a:ext cx="504720" cy="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051760" y="2347920"/>
            <a:ext cx="1636920" cy="3619440"/>
          </a:xfrm>
          <a:prstGeom prst="rect">
            <a:avLst/>
          </a:prstGeom>
          <a:gradFill rotWithShape="0">
            <a:gsLst>
              <a:gs pos="0">
                <a:srgbClr val="b0b0b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48240" y="2311560"/>
            <a:ext cx="1108080" cy="36255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8000" y="240840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3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54360" y="5338800"/>
            <a:ext cx="1114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5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4200" y="2317680"/>
            <a:ext cx="1106640" cy="36324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3560" y="9126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SOURCES OF GROWTH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907920" y="5948280"/>
            <a:ext cx="8764560" cy="1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72280" y="2352600"/>
            <a:ext cx="230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Pharmaceut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3280" y="5281560"/>
            <a:ext cx="1845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Total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91840" y="24084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96760" y="144792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1160" y="4384800"/>
            <a:ext cx="8793360" cy="74520"/>
          </a:xfrm>
          <a:custGeom>
            <a:avLst/>
            <a:gdLst/>
            <a:ahLst/>
            <a:rect l="l" t="t" r="r" b="b"/>
            <a:pathLst>
              <a:path w="5639" h="1">
                <a:moveTo>
                  <a:pt x="0" y="0"/>
                </a:moveTo>
                <a:lnTo>
                  <a:pt x="563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95080" y="53388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0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3400" y="1554120"/>
            <a:ext cx="9267840" cy="70812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03880" y="1454040"/>
            <a:ext cx="2880" cy="44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94440" y="1441440"/>
            <a:ext cx="1800" cy="451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72520" y="1730520"/>
            <a:ext cx="934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51640" y="531324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36.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98000" y="3668760"/>
            <a:ext cx="11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1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30240" y="1866960"/>
            <a:ext cx="3622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(% change, H1 2001 over H1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7520" y="1581120"/>
            <a:ext cx="141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Price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02680" y="457056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5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51640" y="451008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25.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9800" y="3017880"/>
            <a:ext cx="3544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Pharmaceutical Chem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9600" y="3711600"/>
            <a:ext cx="2955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Organic Growth,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58480" y="30654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24880" y="3071880"/>
            <a:ext cx="718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-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91520" y="373212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7680" y="37386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0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39960" y="4506840"/>
            <a:ext cx="1736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7640" y="5083200"/>
            <a:ext cx="87883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47160" y="2382840"/>
            <a:ext cx="1293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4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3046320"/>
            <a:ext cx="11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38800" y="1720800"/>
            <a:ext cx="1249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226360" y="2347920"/>
            <a:ext cx="1636920" cy="3619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48040" y="2332080"/>
            <a:ext cx="1352880" cy="36226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68000" y="23781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5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78200" y="5442120"/>
            <a:ext cx="13273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8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51560" y="2333520"/>
            <a:ext cx="1428840" cy="36226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3560" y="9126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EBITDA BY BUSINESS AREA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73" name=""/>
          <p:cNvSpPr/>
          <p:nvPr/>
        </p:nvSpPr>
        <p:spPr>
          <a:xfrm>
            <a:off x="895320" y="5950080"/>
            <a:ext cx="89773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73360" y="2332080"/>
            <a:ext cx="251100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Pharmaceut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5560" y="5413320"/>
            <a:ext cx="138924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E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31640" y="23781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5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1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6760" y="144792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1160" y="4384800"/>
            <a:ext cx="8952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28760" y="544500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4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6400" y="1828800"/>
            <a:ext cx="9468000" cy="4953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89640" y="1442880"/>
            <a:ext cx="0" cy="45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45280" y="1457280"/>
            <a:ext cx="5040" cy="45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94040" y="1900080"/>
            <a:ext cx="1503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hange</a:t>
            </a: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27680" y="554832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64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74040" y="3854520"/>
            <a:ext cx="11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68.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30240" y="186696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9160" y="6005520"/>
            <a:ext cx="3156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* Including inter-company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94320" y="1900080"/>
            <a:ext cx="1416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06960" y="4524480"/>
            <a:ext cx="47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67360" y="4524480"/>
            <a:ext cx="47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9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529480" y="451152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9.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1960" y="2997360"/>
            <a:ext cx="38671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Pharmaceutical Chem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as % of sale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42120" y="3691080"/>
            <a:ext cx="138924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69800" y="306540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2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30200" y="30639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2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69800" y="3762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30200" y="3762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3320" y="4486320"/>
            <a:ext cx="34466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Operating depre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720" y="4908600"/>
            <a:ext cx="3285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Goodwill amort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28800" y="5365800"/>
            <a:ext cx="893268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67360" y="4928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6960" y="4928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97720" y="2468520"/>
            <a:ext cx="1293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08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8200" y="3156120"/>
            <a:ext cx="11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3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62160" y="4933800"/>
            <a:ext cx="1166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416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18160" y="1901880"/>
            <a:ext cx="1249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061040" y="1581120"/>
            <a:ext cx="2471760" cy="44118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02280" y="1581120"/>
            <a:ext cx="2528640" cy="441324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1800" y="15778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31 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23520" y="230184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9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51160" y="2778120"/>
            <a:ext cx="83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9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36760" y="3295800"/>
            <a:ext cx="866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22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51160" y="37972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6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51160" y="431172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51160" y="47052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3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51160" y="51832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6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1640" y="804600"/>
            <a:ext cx="89218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CAPITAL EMPLOYED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18" name=""/>
          <p:cNvSpPr/>
          <p:nvPr/>
        </p:nvSpPr>
        <p:spPr>
          <a:xfrm>
            <a:off x="1000800" y="2201760"/>
            <a:ext cx="2561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 Working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f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84160" y="149076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05480" y="2808360"/>
            <a:ext cx="286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 Non-current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29240" y="3173400"/>
            <a:ext cx="29743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Reserves for Long -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14560" y="5073480"/>
            <a:ext cx="2434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FINANCING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CAPITAL EM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28880" y="4322880"/>
            <a:ext cx="1209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 De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42200" y="4710240"/>
            <a:ext cx="2529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Shareholders’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76240" y="2197080"/>
            <a:ext cx="8648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4618080"/>
            <a:ext cx="8664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3689280"/>
            <a:ext cx="864864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88840" y="5584680"/>
            <a:ext cx="865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88840" y="5048280"/>
            <a:ext cx="865368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8720" y="4133880"/>
            <a:ext cx="8693280" cy="158760"/>
          </a:xfrm>
          <a:prstGeom prst="rect">
            <a:avLst/>
          </a:prstGeom>
          <a:solidFill>
            <a:srgbClr val="77a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14560" y="3816360"/>
            <a:ext cx="243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CAPITAL EM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76240" y="2731680"/>
            <a:ext cx="86486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88840" y="3191040"/>
            <a:ext cx="86360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00160" y="168120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60320" y="230184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9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02000" y="2771640"/>
            <a:ext cx="83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9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86160" y="3289320"/>
            <a:ext cx="866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28.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89400" y="37908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6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60320" y="430524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6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75360" y="47116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9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87960" y="51814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6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82840" y="1593720"/>
            <a:ext cx="1022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30 J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00080" y="5668920"/>
            <a:ext cx="33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 DEBT / EQUITY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27680" y="560088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94560" y="560088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monBulle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ZANIDI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 (LERCANIDIPINE)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A COMPARATIVE PRODUCT PROFILE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26920" y="2924280"/>
            <a:ext cx="81579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atest generation calcium-channel b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Natural once a 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fficacy comparable to best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xcellent / superior tolerability and safety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ZANIDI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 (LERCANIDIPINE)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THE REFERENCE MARKET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21840" y="2479320"/>
            <a:ext cx="8494920" cy="31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Hypertension is the largest indication worldwide - over $3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Addressed by several classes of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CBs are one of the largest, about $1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The leading brand is Norvas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(amlodipine), sold by Pfizer, about $3.4 b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876240"/>
            <a:ext cx="95248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ROLL OUT HISTORY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53" name=""/>
          <p:cNvSpPr/>
          <p:nvPr/>
        </p:nvSpPr>
        <p:spPr>
          <a:xfrm>
            <a:off x="819000" y="1820880"/>
            <a:ext cx="9282240" cy="8190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6008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94960" y="2890800"/>
            <a:ext cx="19227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LUXEMBO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HERLAND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NewsGoth B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0820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60960" y="2890800"/>
            <a:ext cx="1303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BRAZ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LEB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8960" y="152568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45720" y="2890800"/>
            <a:ext cx="1621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CH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CYP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1040" y="1538280"/>
            <a:ext cx="0" cy="425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1440" y="1538280"/>
            <a:ext cx="0" cy="425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72360" y="1538280"/>
            <a:ext cx="0" cy="425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7972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19080" y="1968480"/>
            <a:ext cx="143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23760" y="2890800"/>
            <a:ext cx="163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HONG K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VENEZU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ECU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HUNG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LITHU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RU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62680" y="59054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* Dec.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091320" y="979560"/>
            <a:ext cx="40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Goth BT"/>
              </a:rPr>
              <a:t>LERCANIDIPINE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189160" y="1704960"/>
          <a:ext cx="657216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1704960"/>
                    <a:ext cx="657216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2193840" y="5537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79800" y="570060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92320" y="5830920"/>
            <a:ext cx="727200" cy="250920"/>
          </a:xfrm>
          <a:prstGeom prst="rect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99000" y="5865840"/>
            <a:ext cx="727200" cy="250920"/>
          </a:xfrm>
          <a:prstGeom prst="rect">
            <a:avLst/>
          </a:prstGeom>
          <a:gradFill rotWithShape="0">
            <a:gsLst>
              <a:gs pos="0">
                <a:srgbClr val="0051a2"/>
              </a:gs>
              <a:gs pos="50000">
                <a:srgbClr val="0066cc"/>
              </a:gs>
              <a:gs pos="100000">
                <a:srgbClr val="0051a2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84920" y="5853240"/>
            <a:ext cx="727200" cy="250560"/>
          </a:xfrm>
          <a:prstGeom prst="rect">
            <a:avLst/>
          </a:prstGeom>
          <a:gradFill rotWithShape="0">
            <a:gsLst>
              <a:gs pos="0">
                <a:srgbClr val="b72400"/>
              </a:gs>
              <a:gs pos="50000">
                <a:srgbClr val="ff3300"/>
              </a:gs>
              <a:gs pos="100000">
                <a:srgbClr val="b724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75680" y="58039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Direct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21520" y="58183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Sales to licens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89520" y="58024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Total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59440" y="3392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96360" y="4324320"/>
            <a:ext cx="4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5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80280" y="2765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2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10720" y="3241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15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88600" y="3544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1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23640" y="1841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2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9200" y="149688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(million euro</a:t>
            </a:r>
            <a:r>
              <a:rPr b="1" lang="it-IT" sz="14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96760" y="145260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08400" y="1139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7640" y="1016640"/>
            <a:ext cx="916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LERCANIDIPINE IN ITALY - Market share as a % of all CCB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601640" y="1471680"/>
          <a:ext cx="816768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471680"/>
                    <a:ext cx="81676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849240" y="1530360"/>
            <a:ext cx="926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739440"/>
            <a:ext cx="8921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LERCANIDIPINE AS A % OF ALL CALCIUM CHANNEL BLOCKERS</a:t>
            </a:r>
            <a:endParaRPr b="1" lang="en-US" sz="2000" spc="-1" strike="noStrike">
              <a:solidFill>
                <a:srgbClr val="000000"/>
              </a:solidFill>
              <a:latin typeface="NewsGoth B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152360" y="1920960"/>
          <a:ext cx="8561520" cy="44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920960"/>
                    <a:ext cx="85615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763560" y="1352520"/>
            <a:ext cx="9226440" cy="398880"/>
          </a:xfrm>
          <a:prstGeom prst="rect">
            <a:avLst/>
          </a:prstGeom>
          <a:gradFill rotWithShape="0">
            <a:gsLst>
              <a:gs pos="0">
                <a:srgbClr val="76b4ca"/>
              </a:gs>
              <a:gs pos="50000">
                <a:srgbClr val="ccffff"/>
              </a:gs>
              <a:gs pos="100000">
                <a:srgbClr val="76b4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IMS data - 2Q 2001 - bubble size represents $ market value of CCB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1241280" y="1703520"/>
          <a:ext cx="851400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703520"/>
                    <a:ext cx="85140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6656760" y="156060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% share of CCB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79080" y="159696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$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8400" y="1139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7640" y="1016640"/>
            <a:ext cx="916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LERCANIDIPINE - QUARTERLY IMS DATA IN 11 KEY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49240" y="1530360"/>
            <a:ext cx="926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KEY EVENTS IN 2000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3087360"/>
            <a:ext cx="87948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Strong improvement in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xpansion in France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Zanidi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license for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Pharmacia agreement: a strong basis for furthe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895320"/>
            <a:ext cx="95248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ROLL OUT PLAN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03" name=""/>
          <p:cNvSpPr/>
          <p:nvPr/>
        </p:nvSpPr>
        <p:spPr>
          <a:xfrm>
            <a:off x="771480" y="1782720"/>
            <a:ext cx="9468000" cy="6382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84160" y="152568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12960" y="2544840"/>
            <a:ext cx="937404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LAUNCHED: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28 countries, representing approx. 30% 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   of world market (of which 15% in last 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   12 months)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APPROVED: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6 additional countries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FILED FOR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APPROVAL: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44 additional countries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LICENSED: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&gt;30 additional countr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2000" y="1940040"/>
            <a:ext cx="8850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Status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2120" y="895320"/>
            <a:ext cx="95248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ROLL OUT PLAN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08" name=""/>
          <p:cNvSpPr/>
          <p:nvPr/>
        </p:nvSpPr>
        <p:spPr>
          <a:xfrm>
            <a:off x="771480" y="1782720"/>
            <a:ext cx="9468000" cy="6382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4160" y="152568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08040" y="2711520"/>
            <a:ext cx="837108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AUSTRALIA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(approved, launch late 2001 - early 2002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HINA           (approval expected 4Q 2001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USA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(to be filed 4Q 2001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ANADA       (filing expected 4Q 2001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JAPAN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(local phase III stud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2000" y="1940040"/>
            <a:ext cx="8850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Key countries where regulatory development is ongo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5840" y="856800"/>
            <a:ext cx="87631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THE HYPERTENSION MARKET IN THE USA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93480" y="2506320"/>
            <a:ext cx="854532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Hypertension affects over 50 million people in the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Market size exceeds 12 bn US$ in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alcium Channel Blockers account for well over one third of the anti-hypertensive mark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Norvas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sales exceed $1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4560" y="165420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20920" y="598176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Recordati /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5480" y="876240"/>
            <a:ext cx="93711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OREST LABORATORIES: THE RIGHT PARTNER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86080" y="2149200"/>
            <a:ext cx="81993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Annual sales exceeding 1.1 billion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Sales force of over 1400 R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stablished presence in the cardiovascula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Tiaza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sales well in excess of 150 ml US$ (&gt;5% market sh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Strong track record in European partnerships &amp;  collaborations in FDA fi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44560" y="165420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21560" y="598176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971640"/>
            <a:ext cx="95248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TIAZAC</a:t>
            </a:r>
            <a:r>
              <a:rPr b="1" lang="en-US" sz="30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 SALES DEVELOPMENT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21" name=""/>
          <p:cNvSpPr/>
          <p:nvPr/>
        </p:nvSpPr>
        <p:spPr>
          <a:xfrm>
            <a:off x="896760" y="145260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187280" y="1949400"/>
          <a:ext cx="843948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49400"/>
                    <a:ext cx="84394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239480" y="15588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(million US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349360" y="4495680"/>
            <a:ext cx="524160" cy="30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866400" y="3516480"/>
            <a:ext cx="531720" cy="2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392800" y="2738520"/>
            <a:ext cx="59832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865200" y="2225520"/>
            <a:ext cx="59868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07120" y="2475360"/>
            <a:ext cx="16102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NewsGoth BT"/>
              </a:rPr>
              <a:t>&gt;5%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NewsGoth BT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21560" y="598176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23520" y="595296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Fiscal year ending M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418600" y="1932120"/>
            <a:ext cx="59832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DRIVERS FOR GROWTH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ICENSED-IN PRODUCTS</a:t>
            </a:r>
            <a:endParaRPr b="1" lang="en-US" sz="24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726920" y="2225520"/>
            <a:ext cx="8157960" cy="35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Focus, determination, speed and willing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to inv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Multi-territorial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Growing interest in the cardio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therapeutic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A pipeline with the right bala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potential and risks as well as 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ILLING THE PIPELIN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LICENSING-IN RESULTS YTD 2001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6840" y="2266920"/>
            <a:ext cx="8678880" cy="479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n advantageous nitroglycerin patch from Myl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Launch in Italy, filing in France and Portugal via MRP, in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n antiviral from Roche in semi-exclusivity for Italy (under registr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dvanced negotiations f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 “superstatin” in semi-exclusivity for Italy (phase I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n anti-ulcer drug (PPI) for Italy (already marke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Escitalopram for Ita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ILLING THE PIPELIN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ONGOING R&amp;D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26920" y="2746080"/>
            <a:ext cx="815796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ercanidip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Advantageous clinical profile consol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Patent life in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ILLING THE PIPELIN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ONGOING R&amp;D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26920" y="2225520"/>
            <a:ext cx="8157960" cy="406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ercanidipine-ACEI fixed combin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New aggressive targets for blood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Combination of drugs needed for most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Patient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Fixed combinations will play a significant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in the future hypertensio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Currently in phase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ILLING THE PIPELIN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ONGOING R&amp;D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726920" y="2505240"/>
            <a:ext cx="8157960" cy="40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Ur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Collaboration agreement with Pharm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Lead optimization in the area of ove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bladder is at an advanced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Formulation activities are underway on a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ompound for female sexual dys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“Satisfactory progress”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KEY RECENT EVENTS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27400" y="2480760"/>
            <a:ext cx="8794800" cy="22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Zanidi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ready for filing 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Pipeline fill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ercadi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in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61760" y="64728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Basis for 2001 - 2004 targets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9200" y="2413080"/>
            <a:ext cx="764532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Curren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210000"/>
              </a:lnSpc>
              <a:spcBef>
                <a:spcPts val="601"/>
              </a:spcBef>
              <a:buClr>
                <a:srgbClr val="3333cc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Current products/late stag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Current 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Zanidip  in U.S., Japan not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9880" y="162864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38560" y="4635360"/>
            <a:ext cx="444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NewsGoth BT"/>
              </a:rPr>
              <a:t>®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95248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NewsGoth BT"/>
              </a:rPr>
              <a:t>2001-2004 TARGETS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53" name=""/>
          <p:cNvSpPr/>
          <p:nvPr/>
        </p:nvSpPr>
        <p:spPr>
          <a:xfrm>
            <a:off x="8136000" y="2006640"/>
            <a:ext cx="1492200" cy="385128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18320" y="2011320"/>
            <a:ext cx="1301760" cy="38368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76880" y="2011320"/>
            <a:ext cx="1263600" cy="38466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14920" y="2011320"/>
            <a:ext cx="1293480" cy="38466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8880" y="857160"/>
            <a:ext cx="952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25640" y="20988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9520" y="2075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75600" y="2684520"/>
            <a:ext cx="124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2880" y="313056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Gross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92880" y="527040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NewsGoth BT"/>
              </a:rPr>
              <a:t>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44600" y="26510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5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10040" y="3108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0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58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10040" y="52261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4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3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26800" y="265104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4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06920" y="3108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5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92880" y="384192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NewsGoth BT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10040" y="38196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6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0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80720" y="3819600"/>
            <a:ext cx="75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27000" y="4440240"/>
            <a:ext cx="8704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33480" y="2575080"/>
            <a:ext cx="8697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920880" y="3743280"/>
            <a:ext cx="8710560" cy="6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36720" y="5848200"/>
            <a:ext cx="8691480" cy="1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6920" y="52261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3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8616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41880" y="3108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60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1880" y="38196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0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954840" y="52261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6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167680" y="2006640"/>
            <a:ext cx="1433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A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2000-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74760" y="26510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1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461800" y="323856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461800" y="396720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0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474760" y="533556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7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47880" y="2063880"/>
            <a:ext cx="23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NewsGoth B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million euro</a:t>
            </a:r>
            <a:r>
              <a:rPr b="1" lang="it-IT" sz="20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914400" y="1863720"/>
            <a:ext cx="9377280" cy="6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33480" y="3041640"/>
            <a:ext cx="869796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39960" y="5126040"/>
            <a:ext cx="8704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77760" y="4508640"/>
            <a:ext cx="2565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NewsGoth BT"/>
              </a:rPr>
              <a:t>EBIT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24360" y="4495680"/>
            <a:ext cx="111744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7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9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66440" y="262080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494320" y="454356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21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461800" y="467820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4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54840" y="455616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22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2120" y="971640"/>
            <a:ext cx="95248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EVOLUTION OF NET SALES &amp; EBIT  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96" name=""/>
          <p:cNvSpPr/>
          <p:nvPr/>
        </p:nvSpPr>
        <p:spPr>
          <a:xfrm>
            <a:off x="896760" y="145260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62240" y="14828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246400" y="1760400"/>
          <a:ext cx="6810120" cy="41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6400" y="1760400"/>
                    <a:ext cx="6810120" cy="41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4635360" y="5842080"/>
            <a:ext cx="23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E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22560" y="5803920"/>
            <a:ext cx="22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Net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03640" y="6045120"/>
            <a:ext cx="5191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30600" y="5880240"/>
            <a:ext cx="749160" cy="2286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2959200"/>
            <a:ext cx="85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3.1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149640" y="2540160"/>
            <a:ext cx="851040" cy="368280"/>
            <a:chOff x="3149640" y="2540160"/>
            <a:chExt cx="851040" cy="368280"/>
          </a:xfrm>
        </p:grpSpPr>
        <p:sp>
          <p:nvSpPr>
            <p:cNvPr id="506" name=""/>
            <p:cNvSpPr/>
            <p:nvPr/>
          </p:nvSpPr>
          <p:spPr>
            <a:xfrm flipH="1">
              <a:off x="3305160" y="2581200"/>
              <a:ext cx="524160" cy="271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49640" y="2540160"/>
              <a:ext cx="85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3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216320" y="2451240"/>
            <a:ext cx="761760" cy="368280"/>
            <a:chOff x="4216320" y="2451240"/>
            <a:chExt cx="761760" cy="368280"/>
          </a:xfrm>
        </p:grpSpPr>
        <p:sp>
          <p:nvSpPr>
            <p:cNvPr id="509" name=""/>
            <p:cNvSpPr/>
            <p:nvPr/>
          </p:nvSpPr>
          <p:spPr>
            <a:xfrm flipH="1">
              <a:off x="4320360" y="2500200"/>
              <a:ext cx="531720" cy="25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16320" y="24512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4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143680" y="2184480"/>
            <a:ext cx="939600" cy="368280"/>
            <a:chOff x="5143680" y="2184480"/>
            <a:chExt cx="939600" cy="368280"/>
          </a:xfrm>
        </p:grpSpPr>
        <p:sp>
          <p:nvSpPr>
            <p:cNvPr id="512" name=""/>
            <p:cNvSpPr/>
            <p:nvPr/>
          </p:nvSpPr>
          <p:spPr>
            <a:xfrm flipH="1">
              <a:off x="5292000" y="2225520"/>
              <a:ext cx="598680" cy="26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3680" y="218448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4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197760" y="1930320"/>
            <a:ext cx="863280" cy="368280"/>
            <a:chOff x="6197760" y="1930320"/>
            <a:chExt cx="863280" cy="368280"/>
          </a:xfrm>
        </p:grpSpPr>
        <p:sp>
          <p:nvSpPr>
            <p:cNvPr id="515" name=""/>
            <p:cNvSpPr/>
            <p:nvPr/>
          </p:nvSpPr>
          <p:spPr>
            <a:xfrm flipH="1">
              <a:off x="6311160" y="1978200"/>
              <a:ext cx="597960" cy="271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97760" y="193032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5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061040" y="1765440"/>
            <a:ext cx="1155600" cy="368280"/>
            <a:chOff x="7061040" y="1765440"/>
            <a:chExt cx="1155600" cy="368280"/>
          </a:xfrm>
        </p:grpSpPr>
        <p:sp>
          <p:nvSpPr>
            <p:cNvPr id="518" name=""/>
            <p:cNvSpPr/>
            <p:nvPr/>
          </p:nvSpPr>
          <p:spPr>
            <a:xfrm flipH="1">
              <a:off x="7337160" y="1801800"/>
              <a:ext cx="598320" cy="27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61040" y="1765440"/>
              <a:ext cx="115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5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4114800" y="2921040"/>
            <a:ext cx="90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3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92560" y="2806560"/>
            <a:ext cx="99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4.1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46640" y="2629080"/>
            <a:ext cx="90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5.2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75520" y="2425680"/>
            <a:ext cx="90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6.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48120" y="3543480"/>
            <a:ext cx="85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ff"/>
                </a:solidFill>
                <a:latin typeface="NewsGoth BT"/>
              </a:rPr>
              <a:t>10.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27400" y="3467160"/>
            <a:ext cx="85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ff"/>
                </a:solidFill>
                <a:latin typeface="NewsGoth BT"/>
              </a:rPr>
              <a:t>11.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94440" y="3301920"/>
            <a:ext cx="85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ff"/>
                </a:solidFill>
                <a:latin typeface="NewsGoth BT"/>
              </a:rPr>
              <a:t>12.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10360" y="3086280"/>
            <a:ext cx="85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ff"/>
                </a:solidFill>
                <a:latin typeface="NewsGoth BT"/>
              </a:rPr>
              <a:t>13.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92760" y="5854680"/>
            <a:ext cx="23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NewsGoth BT"/>
              </a:rPr>
              <a:t>EBIT </a:t>
            </a: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prior 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56240" y="6059520"/>
            <a:ext cx="519120" cy="144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222800" y="1812960"/>
            <a:ext cx="1779480" cy="4116240"/>
          </a:xfrm>
          <a:prstGeom prst="rect">
            <a:avLst/>
          </a:prstGeom>
          <a:gradFill rotWithShape="0">
            <a:gsLst>
              <a:gs pos="0">
                <a:srgbClr val="76b4ca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694800"/>
            <a:ext cx="892152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Goth BT"/>
              </a:rPr>
              <a:t>RECORDATI IN 2004</a:t>
            </a: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2506680"/>
            <a:ext cx="4096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46560" y="1862280"/>
            <a:ext cx="174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80200" y="1812960"/>
            <a:ext cx="1779480" cy="4116240"/>
          </a:xfrm>
          <a:prstGeom prst="rect">
            <a:avLst/>
          </a:prstGeom>
          <a:gradFill rotWithShape="0">
            <a:gsLst>
              <a:gs pos="0">
                <a:srgbClr val="76b4ca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94600" y="18622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39040" y="1825560"/>
            <a:ext cx="1676520" cy="4103640"/>
          </a:xfrm>
          <a:prstGeom prst="rect">
            <a:avLst/>
          </a:prstGeom>
          <a:gradFill rotWithShape="0">
            <a:gsLst>
              <a:gs pos="0">
                <a:srgbClr val="b7b7b7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53640" y="3962520"/>
            <a:ext cx="3544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Pharmaceutical Chem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61240" y="2502000"/>
            <a:ext cx="6174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02760" y="1863720"/>
            <a:ext cx="15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NewsGoth BT"/>
              </a:rPr>
              <a:t>CAG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26040" y="2671920"/>
            <a:ext cx="17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66640" y="267192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69880" y="333360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4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26040" y="3333600"/>
            <a:ext cx="17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91360" y="4761000"/>
            <a:ext cx="1773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722440" y="267192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1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720640" y="333360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352000" y="4748040"/>
            <a:ext cx="1652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26040" y="4761000"/>
            <a:ext cx="1776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280200" y="5448240"/>
            <a:ext cx="1760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26040" y="5448240"/>
            <a:ext cx="1776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87480" y="234648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25640" y="2654280"/>
            <a:ext cx="223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Net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70200" y="5454720"/>
            <a:ext cx="222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Other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87840" y="4767120"/>
            <a:ext cx="766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2800" y="4552920"/>
            <a:ext cx="90421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77760" y="3301920"/>
            <a:ext cx="229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Pharmaceut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82800" y="5924520"/>
            <a:ext cx="90421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27480" y="3943440"/>
            <a:ext cx="1751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58120" y="3943440"/>
            <a:ext cx="1652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6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88120" y="3956040"/>
            <a:ext cx="1773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345520" y="5442120"/>
            <a:ext cx="166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96760" y="150336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5760" y="1841400"/>
            <a:ext cx="18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</a:t>
            </a:r>
            <a:r>
              <a:rPr b="1" lang="it-IT" sz="20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76320" y="3174840"/>
            <a:ext cx="9042480" cy="1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KEY TRENDS IN H1 2001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66920" y="2558520"/>
            <a:ext cx="80200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International pharmaceutical sales up 141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Successful roll-out of lercanidi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Double digit organic growth conti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Further increase in prof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BITDA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+68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BIT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+64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Debt/equity ratio reduced to 0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9880" y="1488960"/>
            <a:ext cx="1940040" cy="44038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32320" y="208296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5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04600" y="2484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9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57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06040" y="42670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8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06040" y="486720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9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2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61480" y="54007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7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07840" y="371016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79960" y="1504800"/>
            <a:ext cx="12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06040" y="310212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1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56200" y="1495440"/>
            <a:ext cx="1905120" cy="43974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9560" y="208296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13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30040" y="2484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59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31840" y="42670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4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36520" y="486720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2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90520" y="54007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8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36520" y="37036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88120" y="15048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88720" y="31021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07200" y="1492200"/>
            <a:ext cx="1827360" cy="437832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614440" y="208296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36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16240" y="260208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39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61440" y="4363920"/>
            <a:ext cx="105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64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16240" y="496404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41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616240" y="549756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44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14440" y="376884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68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10520" y="1504800"/>
            <a:ext cx="15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53600" y="3198960"/>
            <a:ext cx="874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(13.8)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1720" y="9320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RESULTS H1 20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1520" y="2070000"/>
            <a:ext cx="124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800" y="248616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Gross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245736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5840" y="477360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5840" y="535320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840" y="58831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8800" y="193680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9080" y="3614760"/>
            <a:ext cx="9020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5840" y="303516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800" y="422928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EBIT</a:t>
            </a: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5880" y="4809960"/>
            <a:ext cx="1851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retax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800" y="535464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4640" y="3666960"/>
            <a:ext cx="1541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EBIT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49400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8520" y="3073320"/>
            <a:ext cx="178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R&amp;D Exp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9080" y="4194000"/>
            <a:ext cx="9020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1800" y="137160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51920" y="1673280"/>
            <a:ext cx="1676160" cy="41799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31120" y="1711440"/>
            <a:ext cx="15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NewsGoth BT"/>
              </a:rPr>
              <a:t>Change 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727120" y="266544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8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27120" y="428148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4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1720" y="100800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0880" y="58723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73664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3000" y="2643120"/>
            <a:ext cx="3289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Income from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6480" y="150480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5080" y="3349800"/>
            <a:ext cx="352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Gain from sale of a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6640" y="4270320"/>
            <a:ext cx="333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Income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1679400"/>
            <a:ext cx="1747800" cy="41799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8160" y="1666800"/>
            <a:ext cx="1749600" cy="41799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21985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5040" y="3956040"/>
            <a:ext cx="9032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2400" y="1719360"/>
            <a:ext cx="15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55920" y="1719360"/>
            <a:ext cx="15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5400" y="266868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5400" y="428472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7520" y="265428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13200" y="3360600"/>
            <a:ext cx="47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11680" y="428472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272280" y="1681200"/>
            <a:ext cx="1773000" cy="42084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73720" y="1747800"/>
            <a:ext cx="17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08880" y="52815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6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9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0040" y="1681200"/>
            <a:ext cx="1803240" cy="41799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2920" y="1747800"/>
            <a:ext cx="17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53360" y="1681200"/>
            <a:ext cx="1689120" cy="41860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12040" y="174780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1720" y="100800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COMPOSITION OF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0880" y="58723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73664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06560" y="2435400"/>
            <a:ext cx="266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30680" y="2357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1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1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47120" y="538020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6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6480" y="150480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6320" y="3056040"/>
            <a:ext cx="279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 CHEM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6320" y="3902040"/>
            <a:ext cx="94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6320" y="4641840"/>
            <a:ext cx="984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6320" y="5364000"/>
            <a:ext cx="2146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30680" y="30621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8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30680" y="3824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5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30680" y="45291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1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30680" y="5291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8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1160" y="3657600"/>
            <a:ext cx="903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39960" y="4400640"/>
            <a:ext cx="900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0880" y="223344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236700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6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8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08880" y="309564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1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08880" y="3824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13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08880" y="455292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6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47120" y="246528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0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47120" y="319392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7120" y="392256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6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47120" y="465120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272280" y="1795320"/>
            <a:ext cx="1773000" cy="42087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73720" y="1862280"/>
            <a:ext cx="17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80040" y="1795320"/>
            <a:ext cx="1803240" cy="419904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1862280"/>
            <a:ext cx="17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53360" y="1795320"/>
            <a:ext cx="1689120" cy="418644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12040" y="186228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1160" y="598644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30240" y="4773600"/>
            <a:ext cx="900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30240" y="5380200"/>
            <a:ext cx="900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1160" y="23479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74480" y="2397240"/>
            <a:ext cx="768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1.3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8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74480" y="304812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4.5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6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424980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2.5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9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72680" y="485136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7.2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1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56400" y="5452920"/>
            <a:ext cx="1006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68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31720" y="3649680"/>
            <a:ext cx="653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96280" y="2395440"/>
            <a:ext cx="768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6.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7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98080" y="304632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.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8080" y="424656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5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3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96280" y="484668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6.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2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39400" y="5446800"/>
            <a:ext cx="884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12.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3520" y="3646440"/>
            <a:ext cx="653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71760" y="2496960"/>
            <a:ext cx="65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58720" y="3119400"/>
            <a:ext cx="884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68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36040" y="4340160"/>
            <a:ext cx="922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11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657280" y="4932360"/>
            <a:ext cx="884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41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960" y="5516640"/>
            <a:ext cx="76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0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960" y="3738600"/>
            <a:ext cx="76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8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987480"/>
            <a:ext cx="95616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COMPOSITION OF PHARMACEUTICAL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1880" y="2505240"/>
            <a:ext cx="2678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s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320" y="1712880"/>
            <a:ext cx="9337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35280" y="3117960"/>
            <a:ext cx="2923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s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03960" y="4324320"/>
            <a:ext cx="2821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International licens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6080" y="4917960"/>
            <a:ext cx="369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International 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9040" y="5532480"/>
            <a:ext cx="320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TOTAL 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3730680"/>
            <a:ext cx="2783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s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1296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36720" y="2887560"/>
            <a:ext cx="900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739440"/>
            <a:ext cx="89215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Goth BT"/>
              </a:rPr>
              <a:t>MAIN PRODUCTS</a:t>
            </a: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14" name=""/>
          <p:cNvSpPr/>
          <p:nvPr/>
        </p:nvSpPr>
        <p:spPr>
          <a:xfrm>
            <a:off x="966960" y="1351800"/>
            <a:ext cx="9048600" cy="398880"/>
          </a:xfrm>
          <a:prstGeom prst="rect">
            <a:avLst/>
          </a:prstGeom>
          <a:gradFill rotWithShape="0">
            <a:gsLst>
              <a:gs pos="0">
                <a:srgbClr val="76b4ca"/>
              </a:gs>
              <a:gs pos="50000">
                <a:srgbClr val="ccffff"/>
              </a:gs>
              <a:gs pos="100000">
                <a:srgbClr val="76b4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Breakdown of 1H 2001 pharmaceutical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880" y="1733400"/>
          <a:ext cx="904896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33400"/>
                    <a:ext cx="904896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8226360" y="3016080"/>
            <a:ext cx="7452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63880" y="2614680"/>
            <a:ext cx="120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Zanidip 1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Goth BT"/>
              </a:rPr>
              <a:t>(lercanidipine</a:t>
            </a: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01680" y="3273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Tora-Dol 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5400" y="36226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Elopram 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0240" y="38926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Isocef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42360" y="404172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Hexa line 5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Goth BT"/>
              </a:rPr>
              <a:t>(biclotimol</a:t>
            </a: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04560" y="43340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Exomuc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52080" y="457524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Neo Codion 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5720" y="475308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Ulcotenal 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87120" y="3706920"/>
            <a:ext cx="13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71160" y="492768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Diezime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48480" y="4957920"/>
            <a:ext cx="101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Urispas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Goth BT"/>
              </a:rPr>
              <a:t>(flavoxate</a:t>
            </a: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46680" y="521172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Acequin/quide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3880" y="5440320"/>
            <a:ext cx="10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Amodex 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71120" y="53341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Lomexin 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Goth BT"/>
              </a:rPr>
              <a:t>(fenticonazole</a:t>
            </a: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)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6040" y="349092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Other 3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4:02Z</dcterms:created>
  <dc:creator>Vale</dc:creator>
  <dc:description/>
  <dc:language>en-US</dc:language>
  <cp:lastModifiedBy>Tatschke</cp:lastModifiedBy>
  <cp:lastPrinted>2001-09-26T16:07:08Z</cp:lastPrinted>
  <dcterms:modified xsi:type="dcterms:W3CDTF">2001-09-26T18:05:47Z</dcterms:modified>
  <cp:revision>817</cp:revision>
  <dc:subject/>
  <dc:title> </dc:title>
</cp:coreProperties>
</file>