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10288588" cy="6858000"/>
  <p:notesSz cx="66643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1760" y="609120"/>
            <a:ext cx="8762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Goth B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92280" cy="6834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6000" y="758880"/>
            <a:ext cx="9436320" cy="12384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4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34740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6DE0-55D0-4B44-AF2E-36B4B44C157B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833400" y="395280"/>
            <a:ext cx="1935360" cy="308160"/>
          </a:xfrm>
          <a:prstGeom prst="rect">
            <a:avLst/>
          </a:prstGeom>
          <a:ln w="0">
            <a:noFill/>
          </a:ln>
        </p:spPr>
      </p:pic>
      <p:grpSp>
        <p:nvGrpSpPr>
          <p:cNvPr id="11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12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838080" y="393840"/>
            <a:ext cx="1925640" cy="3096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90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0000" indent="-235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35120" indent="-231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0348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0348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0348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692280" cy="6832440"/>
          </a:xfrm>
          <a:prstGeom prst="rect">
            <a:avLst/>
          </a:prstGeom>
          <a:solidFill>
            <a:srgbClr val="ffd501"/>
          </a:solidFill>
          <a:ln w="936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220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226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232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844800" y="1914480"/>
            <a:ext cx="4321440" cy="630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706320" y="4729320"/>
            <a:ext cx="958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1"/>
                </a:solidFill>
                <a:latin typeface="NewsGoth BT"/>
              </a:rPr>
              <a:t>Banca IMI Investment Sem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1"/>
                </a:solidFill>
                <a:latin typeface="NewsGoth BT"/>
              </a:rPr>
              <a:t>Milan, 8 March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47760" y="3271680"/>
            <a:ext cx="875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NewsGoth BT"/>
              </a:rPr>
              <a:t>2000-2001 Exceeding our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762120" y="876240"/>
            <a:ext cx="952488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Goth BT"/>
              </a:rPr>
              <a:t>QUARTERLY EBIT DEVELOPMENT</a:t>
            </a: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graphicFrame>
        <p:nvGraphicFramePr>
          <p:cNvPr id="1200" name=""/>
          <p:cNvGraphicFramePr/>
          <p:nvPr/>
        </p:nvGraphicFramePr>
        <p:xfrm>
          <a:off x="838080" y="1843200"/>
          <a:ext cx="9220320" cy="43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43200"/>
                    <a:ext cx="922032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2" name=""/>
          <p:cNvSpPr/>
          <p:nvPr/>
        </p:nvSpPr>
        <p:spPr>
          <a:xfrm>
            <a:off x="906480" y="1581120"/>
            <a:ext cx="938520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6272280" y="1681200"/>
            <a:ext cx="1773000" cy="420840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96200" y="1747800"/>
            <a:ext cx="10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431040" y="528156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93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57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280040" y="1681200"/>
            <a:ext cx="1803240" cy="417996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714920" y="174780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NewsGoth BT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8253360" y="1681200"/>
            <a:ext cx="1689120" cy="418608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8312040" y="1747800"/>
            <a:ext cx="15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Change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801720" y="100800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YEAR 2000 COMPOSITION OF S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920880" y="5872320"/>
            <a:ext cx="9023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838080" y="173664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(billion li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006560" y="2435400"/>
            <a:ext cx="2668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PHARMACEUTIC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14680" y="235728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6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69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8280360" y="5380200"/>
            <a:ext cx="1100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47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906480" y="1504800"/>
            <a:ext cx="938520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976320" y="3056040"/>
            <a:ext cx="2793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ACTIVE INGREDIENTS &amp; INTERMEDI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976320" y="3902040"/>
            <a:ext cx="94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976320" y="4641840"/>
            <a:ext cx="984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976320" y="5364000"/>
            <a:ext cx="2146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INTER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414680" y="306216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6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0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414680" y="382428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526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00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414680" y="452916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6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49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414680" y="529128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66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50.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11160" y="3657600"/>
            <a:ext cx="903312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939960" y="4400640"/>
            <a:ext cx="900432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920880" y="2233440"/>
            <a:ext cx="9023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431040" y="236700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52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75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431040" y="309564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67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4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431040" y="382428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689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00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431040" y="455292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95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42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80360" y="2465280"/>
            <a:ext cx="1100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42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280360" y="3193920"/>
            <a:ext cx="1100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280360" y="3922560"/>
            <a:ext cx="1100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8280360" y="4651200"/>
            <a:ext cx="1100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3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/>
          <p:nvPr/>
        </p:nvSpPr>
        <p:spPr>
          <a:xfrm>
            <a:off x="6272280" y="1795320"/>
            <a:ext cx="1773000" cy="420876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489720" y="1862280"/>
            <a:ext cx="10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280040" y="1795320"/>
            <a:ext cx="1803240" cy="419904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600440" y="186228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NewsGoth BT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8253360" y="1795320"/>
            <a:ext cx="1689120" cy="418644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8312040" y="1862280"/>
            <a:ext cx="15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Change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11160" y="5986440"/>
            <a:ext cx="9023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30240" y="4773600"/>
            <a:ext cx="900432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30240" y="5380200"/>
            <a:ext cx="900432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11160" y="2347920"/>
            <a:ext cx="9023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60080" y="2397240"/>
            <a:ext cx="768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78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53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760080" y="304812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1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60080" y="424980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95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8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760080" y="485136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42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46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518160" y="5452920"/>
            <a:ext cx="1006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52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00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19120" y="3649680"/>
            <a:ext cx="70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6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769280" y="2395440"/>
            <a:ext cx="768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4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65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769280" y="304632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48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3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769280" y="424656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5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3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769280" y="484668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2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4.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655160" y="5446800"/>
            <a:ext cx="884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6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00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883760" y="3646440"/>
            <a:ext cx="653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6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7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8798040" y="2496960"/>
            <a:ext cx="586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6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8683560" y="3119400"/>
            <a:ext cx="702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36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458200" y="4340160"/>
            <a:ext cx="922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89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798040" y="4932360"/>
            <a:ext cx="586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9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798040" y="5516640"/>
            <a:ext cx="586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42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798040" y="3738600"/>
            <a:ext cx="586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6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25400" y="987480"/>
            <a:ext cx="95616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YEAR 2000 COMPOSITION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OF PHARMACEUTICAL S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18280" y="2505240"/>
            <a:ext cx="2678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Pharmaceuticals 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949320" y="1712880"/>
            <a:ext cx="93376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15400" y="3117960"/>
            <a:ext cx="2923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Pharmaceuticals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83360" y="4324320"/>
            <a:ext cx="2821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International licens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14600" y="4917960"/>
            <a:ext cx="3692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International pharmaceutic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917280" y="5532480"/>
            <a:ext cx="3204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TOTAL PHARMACEUTIC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28360" y="3730680"/>
            <a:ext cx="2783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Pharmaceuticals S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38080" y="181296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(billion li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936720" y="2887560"/>
            <a:ext cx="900432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8226360" y="2347920"/>
            <a:ext cx="1636920" cy="361944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591080" y="2325600"/>
            <a:ext cx="992160" cy="362592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698000" y="2347920"/>
            <a:ext cx="768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7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348080" y="5275440"/>
            <a:ext cx="11145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9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867280" y="2317680"/>
            <a:ext cx="917640" cy="363240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763560" y="912600"/>
            <a:ext cx="952344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YEAR 2000 SOURCES OF GROWTH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280" name=""/>
          <p:cNvSpPr/>
          <p:nvPr/>
        </p:nvSpPr>
        <p:spPr>
          <a:xfrm>
            <a:off x="907920" y="5961240"/>
            <a:ext cx="89521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72280" y="2352600"/>
            <a:ext cx="230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Pharmaceutic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53280" y="5281560"/>
            <a:ext cx="1845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Total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996520" y="2332080"/>
            <a:ext cx="6530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896760" y="1447920"/>
            <a:ext cx="938556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911160" y="4384800"/>
            <a:ext cx="8952120" cy="1440"/>
          </a:xfrm>
          <a:custGeom>
            <a:avLst/>
            <a:gdLst/>
            <a:ahLst/>
            <a:rect l="l" t="t" r="r" b="b"/>
            <a:pathLst>
              <a:path w="5639" h="1">
                <a:moveTo>
                  <a:pt x="0" y="0"/>
                </a:moveTo>
                <a:lnTo>
                  <a:pt x="5639" y="0"/>
                </a:ln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996520" y="5268960"/>
            <a:ext cx="6530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833400" y="1554120"/>
            <a:ext cx="9453600" cy="70812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50000">
                <a:srgbClr val="0061cc"/>
              </a:gs>
              <a:gs pos="100000">
                <a:srgbClr val="0000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403880" y="1454040"/>
            <a:ext cx="2880" cy="44989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994440" y="1441440"/>
            <a:ext cx="1800" cy="45147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527680" y="1565280"/>
            <a:ext cx="8269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481600" y="5253120"/>
            <a:ext cx="1035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30.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8370720" y="3728880"/>
            <a:ext cx="11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14.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930240" y="1866960"/>
            <a:ext cx="3292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(% change, 2000 over 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627520" y="1581120"/>
            <a:ext cx="1416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Price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698000" y="4570560"/>
            <a:ext cx="768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6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8481600" y="4537080"/>
            <a:ext cx="1035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16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829800" y="3017880"/>
            <a:ext cx="3544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Pharmaceutical Chemic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49600" y="3711600"/>
            <a:ext cx="2955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Organic Growth,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812480" y="3065400"/>
            <a:ext cx="6530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996520" y="3056040"/>
            <a:ext cx="6530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698000" y="3732120"/>
            <a:ext cx="768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2.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996520" y="3738600"/>
            <a:ext cx="6530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939960" y="4506840"/>
            <a:ext cx="1736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Acqui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17640" y="5083200"/>
            <a:ext cx="894708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220240" y="2328840"/>
            <a:ext cx="1293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19.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8340840" y="3035160"/>
            <a:ext cx="1172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3.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438800" y="1720800"/>
            <a:ext cx="12492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8226360" y="2347920"/>
            <a:ext cx="1636920" cy="361944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748040" y="2332080"/>
            <a:ext cx="1352880" cy="362268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007600" y="23781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0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437000" y="5442120"/>
            <a:ext cx="13273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7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7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451560" y="2333520"/>
            <a:ext cx="1428840" cy="362268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763560" y="912600"/>
            <a:ext cx="952344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YEAR 2000 EBITDA BY BUSINESS AREA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314" name=""/>
          <p:cNvSpPr/>
          <p:nvPr/>
        </p:nvSpPr>
        <p:spPr>
          <a:xfrm>
            <a:off x="895320" y="5950080"/>
            <a:ext cx="8977320" cy="126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67160" y="2332080"/>
            <a:ext cx="251100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NewsGoth BT"/>
              </a:rPr>
              <a:t>Pharmaceutic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39720" y="5413320"/>
            <a:ext cx="272412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NewsGoth BT"/>
              </a:rPr>
              <a:t>Operating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NewsGoth BT"/>
              </a:rPr>
              <a:t>as % of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761880" y="23781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99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9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896760" y="1447920"/>
            <a:ext cx="938556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911160" y="4384800"/>
            <a:ext cx="89521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761880" y="544500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9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3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806400" y="1828800"/>
            <a:ext cx="9468000" cy="49536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50000">
                <a:srgbClr val="0061cc"/>
              </a:gs>
              <a:gs pos="100000">
                <a:srgbClr val="0000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89640" y="1442880"/>
            <a:ext cx="0" cy="4510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8045280" y="1457280"/>
            <a:ext cx="5040" cy="45007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8326440" y="1900080"/>
            <a:ext cx="14382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Change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8454240" y="5548320"/>
            <a:ext cx="1166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14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472600" y="3854520"/>
            <a:ext cx="11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89.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930240" y="186696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(billion li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167640" y="5962680"/>
            <a:ext cx="30200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NewsGoth BT"/>
              </a:rPr>
              <a:t>* Including inter-company 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102360" y="1900080"/>
            <a:ext cx="14158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181480" y="4524480"/>
            <a:ext cx="586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8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935760" y="4524480"/>
            <a:ext cx="586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8712360" y="4511520"/>
            <a:ext cx="904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8.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31960" y="2997360"/>
            <a:ext cx="386712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NewsGoth BT"/>
              </a:rPr>
              <a:t>Pharmaceutical Chemic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as % of sales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907200" y="3691080"/>
            <a:ext cx="138924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NewsGoth BT"/>
              </a:rPr>
              <a:t>To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007600" y="306540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4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9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61880" y="30639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7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20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007600" y="37623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72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3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761880" y="37623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36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9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73120" y="4486320"/>
            <a:ext cx="344664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NewsGoth BT"/>
              </a:rPr>
              <a:t>Operating deprec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90400" y="4908600"/>
            <a:ext cx="32850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NewsGoth BT"/>
              </a:rPr>
              <a:t>Goodwill amort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928800" y="5365800"/>
            <a:ext cx="8932680" cy="126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935760" y="49287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295960" y="4928760"/>
            <a:ext cx="47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6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8321760" y="2468520"/>
            <a:ext cx="1293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165.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442360" y="3156120"/>
            <a:ext cx="1173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6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454240" y="4933800"/>
            <a:ext cx="1166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133.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514760" y="1901880"/>
            <a:ext cx="1249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IMPACT OF ACQUISITION OF BOUCHARA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1606680" y="3031920"/>
            <a:ext cx="8794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Consolidated since 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Contributes to sales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Goodwill amortized over 5 years, starting Q3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Contributes to EBIT after amortization of good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839880" y="1692360"/>
            <a:ext cx="944244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7061040" y="1581120"/>
            <a:ext cx="2471760" cy="441180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202280" y="1581120"/>
            <a:ext cx="2528640" cy="441324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06520" y="1577880"/>
            <a:ext cx="87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31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022360" y="231444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0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022360" y="2778120"/>
            <a:ext cx="8391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23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ffcc"/>
                </a:solidFill>
                <a:latin typeface="NewsGoth BT"/>
              </a:rPr>
              <a:t>5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995360" y="3384720"/>
            <a:ext cx="866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(36.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022360" y="389880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NewsGoth BT"/>
              </a:rPr>
              <a:t>30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166360" y="456552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86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022360" y="502272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21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022360" y="551340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NewsGoth BT"/>
              </a:rPr>
              <a:t>30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763560" y="740880"/>
            <a:ext cx="876312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CAPITAL EMPLOYED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362" name=""/>
          <p:cNvSpPr/>
          <p:nvPr/>
        </p:nvSpPr>
        <p:spPr>
          <a:xfrm>
            <a:off x="922320" y="2214720"/>
            <a:ext cx="25610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Net Working Capi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for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884160" y="1490760"/>
            <a:ext cx="938520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883440" y="2757600"/>
            <a:ext cx="2869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Net Non-current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ffcc"/>
                </a:solidFill>
                <a:latin typeface="NewsGoth BT"/>
              </a:rPr>
              <a:t>of which goodw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894960" y="3262320"/>
            <a:ext cx="29743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Reserves for Long -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Li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020240" y="5442120"/>
            <a:ext cx="24346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FINANCING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CAPITAL EM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004400" y="4576680"/>
            <a:ext cx="1209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Net Deb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923760" y="5014800"/>
            <a:ext cx="2529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Shareholders’ Eq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876240" y="2209320"/>
            <a:ext cx="864864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863640" y="4935600"/>
            <a:ext cx="86644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888840" y="3816360"/>
            <a:ext cx="8649000" cy="126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876240" y="5978520"/>
            <a:ext cx="86518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76240" y="5403960"/>
            <a:ext cx="8653680" cy="126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28720" y="4248000"/>
            <a:ext cx="8693280" cy="285840"/>
          </a:xfrm>
          <a:prstGeom prst="rect">
            <a:avLst/>
          </a:prstGeom>
          <a:solidFill>
            <a:srgbClr val="0000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020240" y="3917880"/>
            <a:ext cx="2434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CAPITAL EM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876240" y="2744280"/>
            <a:ext cx="864864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888840" y="3279240"/>
            <a:ext cx="863604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085760" y="1752480"/>
            <a:ext cx="23623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(billion li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859160" y="231444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8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859160" y="2771640"/>
            <a:ext cx="8391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376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ffcc"/>
                </a:solidFill>
                <a:latin typeface="NewsGoth BT"/>
              </a:rPr>
              <a:t>135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832160" y="3378240"/>
            <a:ext cx="866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(43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859160" y="389268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NewsGoth BT"/>
              </a:rPr>
              <a:t>51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859160" y="455940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25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859160" y="501660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265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859160" y="551196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NewsGoth BT"/>
              </a:rPr>
              <a:t>51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843320" y="1593720"/>
            <a:ext cx="871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31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"/>
          <p:cNvSpPr/>
          <p:nvPr/>
        </p:nvSpPr>
        <p:spPr>
          <a:xfrm>
            <a:off x="0" y="0"/>
            <a:ext cx="692280" cy="6832440"/>
          </a:xfrm>
          <a:prstGeom prst="rect">
            <a:avLst/>
          </a:prstGeom>
          <a:solidFill>
            <a:srgbClr val="ffd501"/>
          </a:solidFill>
          <a:ln w="936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1389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2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1395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9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grpSp>
        <p:nvGrpSpPr>
          <p:cNvPr id="1400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1401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9" name="" descr=""/>
          <p:cNvPicPr/>
          <p:nvPr/>
        </p:nvPicPr>
        <p:blipFill>
          <a:blip r:embed="rId2"/>
          <a:stretch/>
        </p:blipFill>
        <p:spPr>
          <a:xfrm>
            <a:off x="3844800" y="1914480"/>
            <a:ext cx="4321440" cy="630360"/>
          </a:xfrm>
          <a:prstGeom prst="rect">
            <a:avLst/>
          </a:prstGeom>
          <a:ln w="0">
            <a:noFill/>
          </a:ln>
        </p:spPr>
      </p:pic>
      <p:sp>
        <p:nvSpPr>
          <p:cNvPr id="1570" name=""/>
          <p:cNvSpPr/>
          <p:nvPr/>
        </p:nvSpPr>
        <p:spPr>
          <a:xfrm>
            <a:off x="704880" y="4343400"/>
            <a:ext cx="9582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NewsGoth BT"/>
              </a:rPr>
              <a:t>Walter Bevilacq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Goth BT"/>
              </a:rPr>
              <a:t>Vice President Corporate Develop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933768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C2FF-D72E-4E7C-9164-F28481CBB964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/>
          <p:nvPr/>
        </p:nvSpPr>
        <p:spPr>
          <a:xfrm>
            <a:off x="0" y="0"/>
            <a:ext cx="692280" cy="6834240"/>
          </a:xfrm>
          <a:prstGeom prst="rect">
            <a:avLst/>
          </a:prstGeom>
          <a:solidFill>
            <a:srgbClr val="ffd501"/>
          </a:solidFill>
          <a:ln w="936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1574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7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050920" y="4629240"/>
            <a:ext cx="70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NewsGoth BT"/>
              </a:rPr>
              <a:t>ZANIDI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NewsGoth BT"/>
              </a:rPr>
              <a:t>®</a:t>
            </a:r>
            <a:r>
              <a:rPr b="1" lang="en-US" sz="2800" spc="-1" strike="noStrike">
                <a:solidFill>
                  <a:srgbClr val="ffff00"/>
                </a:solidFill>
                <a:latin typeface="NewsGoth BT"/>
              </a:rPr>
              <a:t> WORLDW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NewsGoth BT"/>
              </a:rPr>
              <a:t>SITUATION AND OUTL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0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1581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5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pic>
        <p:nvPicPr>
          <p:cNvPr id="1586" name="" descr=""/>
          <p:cNvPicPr/>
          <p:nvPr/>
        </p:nvPicPr>
        <p:blipFill>
          <a:blip r:embed="rId2"/>
          <a:stretch/>
        </p:blipFill>
        <p:spPr>
          <a:xfrm>
            <a:off x="3851280" y="1914480"/>
            <a:ext cx="4314960" cy="623880"/>
          </a:xfrm>
          <a:prstGeom prst="rect">
            <a:avLst/>
          </a:prstGeom>
          <a:ln w="0">
            <a:noFill/>
          </a:ln>
        </p:spPr>
      </p:pic>
      <p:sp>
        <p:nvSpPr>
          <p:cNvPr id="1587" name=""/>
          <p:cNvSpPr/>
          <p:nvPr/>
        </p:nvSpPr>
        <p:spPr>
          <a:xfrm>
            <a:off x="933768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BF14-1CD1-487D-839F-18FD45AC3094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1589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ZANIDIP</a:t>
            </a:r>
            <a:r>
              <a:rPr b="1" lang="en-US" sz="3000" spc="-1" strike="noStrike" baseline="30000">
                <a:solidFill>
                  <a:srgbClr val="ffffff"/>
                </a:solidFill>
                <a:latin typeface="NewsGoth BT"/>
              </a:rPr>
              <a:t>®</a:t>
            </a: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 (LERCANIDIPINE)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A COMPARATIVE PRODUCT PROFILE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1726920" y="2924280"/>
            <a:ext cx="81579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Latest generation calcium-channel blo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Natural once a d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Efficacy comparable to best 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Excellent / superior tolerability and safety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839880" y="2035080"/>
            <a:ext cx="944244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692280" cy="6832440"/>
          </a:xfrm>
          <a:prstGeom prst="rect">
            <a:avLst/>
          </a:prstGeom>
          <a:solidFill>
            <a:srgbClr val="ffd501"/>
          </a:solidFill>
          <a:ln w="936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405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411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grpSp>
        <p:nvGrpSpPr>
          <p:cNvPr id="416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417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3844800" y="1914480"/>
            <a:ext cx="4321440" cy="6303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1378080" y="2790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Banca IMI Investment Seminar - Milan, 8 March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93960" y="3584520"/>
            <a:ext cx="604692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NewsGoth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Giovanni Recorda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Chairman and Chief Executive Offic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NewsGoth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Fritz Squin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Chief Financial Offic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NewsGoth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NewsGoth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Walter Bevilacqu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Vice President Corporate Develop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28872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D841-3F4F-4488-918B-ECB88767ABE6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ZANIDIP</a:t>
            </a:r>
            <a:r>
              <a:rPr b="1" lang="en-US" sz="3000" spc="-1" strike="noStrike" baseline="30000">
                <a:solidFill>
                  <a:srgbClr val="ffffff"/>
                </a:solidFill>
                <a:latin typeface="NewsGoth BT"/>
              </a:rPr>
              <a:t>®</a:t>
            </a: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 (LERCANIDIPINE)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THE REFERENCE MARKET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1221840" y="2479320"/>
            <a:ext cx="8494920" cy="31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Hypertension is the largest indication worldwide - over $30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Addressed by several classes of d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CCBs are one of the largest, about $10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The leading brand is Norvas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NewsGoth BT"/>
              </a:rPr>
              <a:t>®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(amlodipine), sold by Pfizer, about $3.4 bill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839880" y="2035080"/>
            <a:ext cx="944244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762120" y="1031400"/>
            <a:ext cx="9524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LERCANIDIPINE IN ITALY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MARKET SHARE AS A % OF NORVASC</a:t>
            </a:r>
            <a:r>
              <a:rPr b="1" lang="en-US" sz="3000" spc="-1" strike="noStrike" baseline="30000">
                <a:solidFill>
                  <a:srgbClr val="ffffff"/>
                </a:solidFill>
                <a:latin typeface="NewsGoth BT"/>
              </a:rPr>
              <a:t>®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graphicFrame>
        <p:nvGraphicFramePr>
          <p:cNvPr id="1764" name=""/>
          <p:cNvGraphicFramePr/>
          <p:nvPr/>
        </p:nvGraphicFramePr>
        <p:xfrm>
          <a:off x="879480" y="1935000"/>
          <a:ext cx="9240840" cy="43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9480" y="1935000"/>
                    <a:ext cx="924084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6" name=""/>
          <p:cNvSpPr/>
          <p:nvPr/>
        </p:nvSpPr>
        <p:spPr>
          <a:xfrm>
            <a:off x="914400" y="1860480"/>
            <a:ext cx="9372600" cy="1260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762120" y="1031400"/>
            <a:ext cx="9524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LERCANIDIPINE IN ITALY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MARKET SHARE AS A % OF OTHER CCBs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graphicFrame>
        <p:nvGraphicFramePr>
          <p:cNvPr id="1768" name=""/>
          <p:cNvGraphicFramePr/>
          <p:nvPr/>
        </p:nvGraphicFramePr>
        <p:xfrm>
          <a:off x="846000" y="1935000"/>
          <a:ext cx="930600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1935000"/>
                    <a:ext cx="930600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0" name=""/>
          <p:cNvSpPr/>
          <p:nvPr/>
        </p:nvSpPr>
        <p:spPr>
          <a:xfrm>
            <a:off x="901800" y="1860480"/>
            <a:ext cx="9385200" cy="1260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921800" y="239868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NewsGoth BT"/>
              </a:rPr>
              <a:t>(amlodipine exclu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"/>
          <p:cNvSpPr/>
          <p:nvPr/>
        </p:nvSpPr>
        <p:spPr>
          <a:xfrm>
            <a:off x="4346640" y="1774800"/>
            <a:ext cx="1674720" cy="415440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978440" y="2506680"/>
            <a:ext cx="4096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449600" y="1862280"/>
            <a:ext cx="111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NewsGoth BT"/>
              </a:rPr>
              <a:t>1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280200" y="1812960"/>
            <a:ext cx="1779480" cy="411624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421320" y="186228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NewsGoth BT"/>
              </a:rPr>
              <a:t>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8339040" y="1825560"/>
            <a:ext cx="1676520" cy="410364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801720" y="100800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YEAR 2000 LERCANIDIPINE S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017360" y="3606840"/>
            <a:ext cx="28645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SALES TO LICENSEE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012680" y="188928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(billion li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985680" y="1562040"/>
            <a:ext cx="929664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861240" y="2502000"/>
            <a:ext cx="61740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8402760" y="1863720"/>
            <a:ext cx="15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NewsGoth BT"/>
              </a:rPr>
              <a:t>Change 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875840" y="267192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3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879240" y="267192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5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879240" y="360036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2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875840" y="360036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879240" y="454500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75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8719560" y="267192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+6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719560" y="360036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+67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8719560" y="454500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+67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875840" y="454500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4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652080" y="544824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0.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92680" y="5448240"/>
            <a:ext cx="775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8.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990720" y="5230800"/>
            <a:ext cx="9023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987480" y="2346480"/>
            <a:ext cx="9023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415160" y="5970600"/>
            <a:ext cx="27320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Goth BT"/>
              </a:rPr>
              <a:t>* Excluding licensing inc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022760" y="2692440"/>
            <a:ext cx="18968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DIRECT 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002240" y="5454720"/>
            <a:ext cx="25077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% OF TOTAL 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996840" y="4551480"/>
            <a:ext cx="997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982800" y="4222800"/>
            <a:ext cx="9042120" cy="1260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762120" y="876240"/>
            <a:ext cx="952488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ROLL OUT HISTORY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803" name=""/>
          <p:cNvSpPr/>
          <p:nvPr/>
        </p:nvSpPr>
        <p:spPr>
          <a:xfrm>
            <a:off x="819000" y="1820880"/>
            <a:ext cx="9468000" cy="81900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50000">
                <a:srgbClr val="0061cc"/>
              </a:gs>
              <a:gs pos="100000">
                <a:srgbClr val="0000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385280" y="209700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842760" y="2890800"/>
            <a:ext cx="192276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A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GRE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ISRA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LUXEMBOU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NETHERLAND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NewsGoth BT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793960" y="1538280"/>
            <a:ext cx="0" cy="38448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4494240" y="1538280"/>
            <a:ext cx="0" cy="38448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228480" y="209700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2921760" y="2890800"/>
            <a:ext cx="13039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BELG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BRAZI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LEBA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858960" y="1525680"/>
            <a:ext cx="938520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745520" y="2097000"/>
            <a:ext cx="11894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1H-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536360" y="2890800"/>
            <a:ext cx="162108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CH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DENMA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FIN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SW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7894800" y="1538280"/>
            <a:ext cx="0" cy="38448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6426720" y="2097000"/>
            <a:ext cx="11894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2H-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387480" y="2890800"/>
            <a:ext cx="13284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CYP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233560" y="1968480"/>
            <a:ext cx="143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EX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8031600" y="2890800"/>
            <a:ext cx="16347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ECU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HONG K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MEX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SINGAP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TAI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TUR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VENEZU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VIET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1483200" y="590544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Goth BT"/>
              </a:rPr>
              <a:t>* Dec. 19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762120" y="895320"/>
            <a:ext cx="952488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ROLL OUT PLAN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820" name=""/>
          <p:cNvSpPr/>
          <p:nvPr/>
        </p:nvSpPr>
        <p:spPr>
          <a:xfrm>
            <a:off x="771480" y="1782720"/>
            <a:ext cx="9468000" cy="63828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50000">
                <a:srgbClr val="0061cc"/>
              </a:gs>
              <a:gs pos="100000">
                <a:srgbClr val="0000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884160" y="1525680"/>
            <a:ext cx="938520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297160" y="2481120"/>
            <a:ext cx="473868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AUSTRALI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CANAD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CHIN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USA (filing expected 2H 2001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JAPAN (local phase III stud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062000" y="1940040"/>
            <a:ext cx="8850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NewsGoth BT"/>
              </a:rPr>
              <a:t>Key countries where regulatory development is ongo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928440" y="2301840"/>
            <a:ext cx="882324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Goth BT"/>
              </a:rPr>
              <a:t>LICENSING / ROLL OUT TARGETS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NewsGoth BT"/>
              </a:rPr>
              <a:t>ANNOUNCED FOR 200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NewsGoth BT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NewsGoth BT"/>
              </a:rPr>
              <a:t>TO BE MET IN 2001</a:t>
            </a: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825" name=""/>
          <p:cNvSpPr/>
          <p:nvPr/>
        </p:nvSpPr>
        <p:spPr>
          <a:xfrm>
            <a:off x="762120" y="952560"/>
            <a:ext cx="95248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ROLL OUT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884160" y="1563840"/>
            <a:ext cx="938520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"/>
          <p:cNvSpPr/>
          <p:nvPr/>
        </p:nvSpPr>
        <p:spPr>
          <a:xfrm>
            <a:off x="0" y="0"/>
            <a:ext cx="692280" cy="6834240"/>
          </a:xfrm>
          <a:prstGeom prst="rect">
            <a:avLst/>
          </a:prstGeom>
          <a:solidFill>
            <a:srgbClr val="ffd501"/>
          </a:solidFill>
          <a:ln w="936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8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1829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2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703440" y="4362480"/>
            <a:ext cx="958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NewsGoth BT"/>
              </a:rPr>
              <a:t>ZANIDI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NewsGoth BT"/>
              </a:rPr>
              <a:t>®</a:t>
            </a:r>
            <a:r>
              <a:rPr b="1" lang="en-US" sz="2800" spc="-1" strike="noStrike">
                <a:solidFill>
                  <a:srgbClr val="ffff00"/>
                </a:solidFill>
                <a:latin typeface="NewsGoth BT"/>
              </a:rPr>
              <a:t> IN THE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NewsGoth BT"/>
              </a:rPr>
              <a:t>FOREST LABORATORIES LICENS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5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1836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0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pic>
        <p:nvPicPr>
          <p:cNvPr id="1841" name="" descr=""/>
          <p:cNvPicPr/>
          <p:nvPr/>
        </p:nvPicPr>
        <p:blipFill>
          <a:blip r:embed="rId2"/>
          <a:stretch/>
        </p:blipFill>
        <p:spPr>
          <a:xfrm>
            <a:off x="3851280" y="1914480"/>
            <a:ext cx="4314960" cy="623880"/>
          </a:xfrm>
          <a:prstGeom prst="rect">
            <a:avLst/>
          </a:prstGeom>
          <a:ln w="0">
            <a:noFill/>
          </a:ln>
        </p:spPr>
      </p:pic>
      <p:sp>
        <p:nvSpPr>
          <p:cNvPr id="1842" name=""/>
          <p:cNvSpPr/>
          <p:nvPr/>
        </p:nvSpPr>
        <p:spPr>
          <a:xfrm>
            <a:off x="933768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DE65-0F2F-4A02-AF38-1D852E1C768F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1844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915840" y="856800"/>
            <a:ext cx="876312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THE HYPERTENSION MARKET IN THE USA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1293480" y="2506320"/>
            <a:ext cx="854532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0200" indent="-340200">
              <a:lnSpc>
                <a:spcPct val="110000"/>
              </a:lnSpc>
              <a:spcBef>
                <a:spcPts val="1500"/>
              </a:spcBef>
              <a:buClr>
                <a:srgbClr val="ffd501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Hypertension affects over 50 million people in the U.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0200" indent="-340200">
              <a:lnSpc>
                <a:spcPct val="110000"/>
              </a:lnSpc>
              <a:spcBef>
                <a:spcPts val="1500"/>
              </a:spcBef>
              <a:buClr>
                <a:srgbClr val="ffd501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Market size exceeding 10 bn US$ in annual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0200" indent="-340200">
              <a:lnSpc>
                <a:spcPct val="110000"/>
              </a:lnSpc>
              <a:spcBef>
                <a:spcPts val="1500"/>
              </a:spcBef>
              <a:buClr>
                <a:srgbClr val="ffd501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Calcium Channel Blockers account for well over one third of the anti-hypertensive marke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0200" indent="-340200">
              <a:lnSpc>
                <a:spcPct val="110000"/>
              </a:lnSpc>
              <a:spcBef>
                <a:spcPts val="1500"/>
              </a:spcBef>
              <a:buClr>
                <a:srgbClr val="ffd501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Norvas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NewsGoth BT"/>
              </a:rPr>
              <a:t>® 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sales exceed $1.5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844560" y="1654200"/>
            <a:ext cx="944244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256760" y="598176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Goth BT"/>
              </a:rPr>
              <a:t>Source: Recordati / Forest Labor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915480" y="876240"/>
            <a:ext cx="93711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FOREST LABORATORIES: THE RIGHT PARTNER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1486080" y="2149200"/>
            <a:ext cx="81993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9760" indent="-329760">
              <a:lnSpc>
                <a:spcPct val="110000"/>
              </a:lnSpc>
              <a:spcBef>
                <a:spcPts val="1500"/>
              </a:spcBef>
              <a:buClr>
                <a:srgbClr val="ffd501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Annual sales exceeding 1.1 billion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760" indent="-329760">
              <a:lnSpc>
                <a:spcPct val="110000"/>
              </a:lnSpc>
              <a:spcBef>
                <a:spcPts val="1500"/>
              </a:spcBef>
              <a:buClr>
                <a:srgbClr val="ffd501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Sales force of over 1400 R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760" indent="-329760">
              <a:lnSpc>
                <a:spcPct val="110000"/>
              </a:lnSpc>
              <a:spcBef>
                <a:spcPts val="1500"/>
              </a:spcBef>
              <a:buClr>
                <a:srgbClr val="ffd501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Established presence in the cardiovascular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760" indent="-329760">
              <a:lnSpc>
                <a:spcPct val="110000"/>
              </a:lnSpc>
              <a:spcBef>
                <a:spcPts val="1500"/>
              </a:spcBef>
              <a:buClr>
                <a:srgbClr val="ffd501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Tiaz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NewsGoth BT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sales exceeding 150 ml US$ (5% market sh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760" indent="-329760">
              <a:lnSpc>
                <a:spcPct val="110000"/>
              </a:lnSpc>
              <a:spcBef>
                <a:spcPts val="1500"/>
              </a:spcBef>
              <a:buClr>
                <a:srgbClr val="ffd501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Strong track record in European partnerships &amp;  collaborations in FDA fi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844560" y="1654200"/>
            <a:ext cx="944244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1321560" y="598176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Goth BT"/>
              </a:rPr>
              <a:t>Source: Forest Labor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0"/>
            <a:ext cx="692280" cy="6832440"/>
          </a:xfrm>
          <a:prstGeom prst="rect">
            <a:avLst/>
          </a:prstGeom>
          <a:solidFill>
            <a:srgbClr val="ffd501"/>
          </a:solidFill>
          <a:ln w="936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591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597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grpSp>
        <p:nvGrpSpPr>
          <p:cNvPr id="602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603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3844800" y="1914480"/>
            <a:ext cx="4321440" cy="63036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704880" y="4581360"/>
            <a:ext cx="9582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NewsGoth BT"/>
              </a:rPr>
              <a:t>Giovanni Record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Goth BT"/>
              </a:rPr>
              <a:t>Chairman and Chief Executive Offic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28872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43B4-F05D-4D12-A444-21A15772F047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762120" y="971640"/>
            <a:ext cx="95248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TIAZAC</a:t>
            </a:r>
            <a:r>
              <a:rPr b="1" lang="en-US" sz="3000" spc="-1" strike="noStrike" baseline="30000">
                <a:solidFill>
                  <a:srgbClr val="ffffff"/>
                </a:solidFill>
                <a:latin typeface="NewsGoth BT"/>
              </a:rPr>
              <a:t>®</a:t>
            </a: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 SALES DEVELOPMENT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021" name=""/>
          <p:cNvSpPr/>
          <p:nvPr/>
        </p:nvSpPr>
        <p:spPr>
          <a:xfrm>
            <a:off x="896760" y="1452600"/>
            <a:ext cx="938556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2" name=""/>
          <p:cNvGraphicFramePr/>
          <p:nvPr/>
        </p:nvGraphicFramePr>
        <p:xfrm>
          <a:off x="1187280" y="1949400"/>
          <a:ext cx="844092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49400"/>
                    <a:ext cx="844092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4" name=""/>
          <p:cNvSpPr/>
          <p:nvPr/>
        </p:nvSpPr>
        <p:spPr>
          <a:xfrm>
            <a:off x="1239480" y="155880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sGoth BT"/>
              </a:rPr>
              <a:t>(million US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H="1">
            <a:off x="2593800" y="4322880"/>
            <a:ext cx="524160" cy="299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H="1">
            <a:off x="4473000" y="3097080"/>
            <a:ext cx="531720" cy="279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 flipH="1">
            <a:off x="6358680" y="2174760"/>
            <a:ext cx="598680" cy="298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flipH="1">
            <a:off x="8251920" y="1749600"/>
            <a:ext cx="598320" cy="298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813800" y="2345400"/>
            <a:ext cx="147924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5% mark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sh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1321560" y="598176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Goth BT"/>
              </a:rPr>
              <a:t>Source: Forest Labor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6923520" y="595296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Goth BT"/>
              </a:rPr>
              <a:t>Fiscal year ending M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762120" y="895320"/>
            <a:ext cx="952488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FILLING THE PIPELINE: ONGOING R&amp;D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033" name=""/>
          <p:cNvSpPr/>
          <p:nvPr/>
        </p:nvSpPr>
        <p:spPr>
          <a:xfrm>
            <a:off x="896760" y="1525680"/>
            <a:ext cx="938556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2343240" y="1825560"/>
            <a:ext cx="64310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LERCANIDIPINE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- CLINICAL PROFIL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- PATENT EXTENSION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- NEW COMBINATION PRODUCT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- GENE EXPRESSION STUDI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• GENITO-URINARY DISORD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- URINARY INCONTINENCE/ UNSTABLE BLAD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- BENIGN PROSTATIC HYPERPLASIA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- FEMALE SEXUAL DYS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"/>
          <p:cNvSpPr/>
          <p:nvPr/>
        </p:nvSpPr>
        <p:spPr>
          <a:xfrm>
            <a:off x="858960" y="1986120"/>
            <a:ext cx="942804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763560" y="1141200"/>
            <a:ext cx="95234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NewsGoth BT"/>
              </a:rPr>
              <a:t>Genitourinary Alliance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NewsGoth BT"/>
              </a:rPr>
              <a:t>Recordati - Pharmacia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NewsGoth BT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642960" y="2247480"/>
            <a:ext cx="91044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1113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 The alliance takes advantage of each partner's strength in this area. It aims at gaining a leadership position in the pharmacological treatment of a number of genitourinary disorders, particularly of mictur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13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 The initial announcement concerns the overactive bladder pro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13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3.</a:t>
            </a: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 The alliance has started work based on Recordati's discove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13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 Research will be mainly conducted at Recordati. Pharmacia will be responsible for development. Recordati will manufacture the active ingredients based on its compoun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13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 Pharmacia will have worldwide marketing rights with Recordati co-marketing in certain territories.</a:t>
            </a:r>
            <a:r>
              <a:rPr b="0" lang="en-US" sz="1800" spc="-1" strike="noStrike">
                <a:solidFill>
                  <a:srgbClr val="ffffff"/>
                </a:solidFill>
                <a:latin typeface="NewsGoth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"/>
          <p:cNvSpPr/>
          <p:nvPr/>
        </p:nvSpPr>
        <p:spPr>
          <a:xfrm>
            <a:off x="0" y="0"/>
            <a:ext cx="692280" cy="6832440"/>
          </a:xfrm>
          <a:prstGeom prst="rect">
            <a:avLst/>
          </a:prstGeom>
          <a:solidFill>
            <a:srgbClr val="ffd501"/>
          </a:solidFill>
          <a:ln w="936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2040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3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2046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0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grpSp>
        <p:nvGrpSpPr>
          <p:cNvPr id="2051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2052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0" name="" descr=""/>
          <p:cNvPicPr/>
          <p:nvPr/>
        </p:nvPicPr>
        <p:blipFill>
          <a:blip r:embed="rId2"/>
          <a:stretch/>
        </p:blipFill>
        <p:spPr>
          <a:xfrm>
            <a:off x="3844800" y="1914480"/>
            <a:ext cx="4321440" cy="630360"/>
          </a:xfrm>
          <a:prstGeom prst="rect">
            <a:avLst/>
          </a:prstGeom>
          <a:ln w="0">
            <a:noFill/>
          </a:ln>
        </p:spPr>
      </p:pic>
      <p:sp>
        <p:nvSpPr>
          <p:cNvPr id="2221" name=""/>
          <p:cNvSpPr/>
          <p:nvPr/>
        </p:nvSpPr>
        <p:spPr>
          <a:xfrm>
            <a:off x="704880" y="4581360"/>
            <a:ext cx="9582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NewsGoth BT"/>
              </a:rPr>
              <a:t>Giovanni Record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Goth BT"/>
              </a:rPr>
              <a:t>Chairman and Chief Executive Offic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933768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EBC5-6EFB-4A53-AB89-400C1BF58037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952488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NewsGoth BT"/>
              </a:rPr>
              <a:t>2000-2003 TARGETS</a:t>
            </a:r>
            <a:br>
              <a:rPr sz="3000"/>
            </a:br>
            <a:r>
              <a:rPr b="1" lang="it-IT" sz="30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NewsGoth BT"/>
              </a:rPr>
              <a:t>(Milan, May 2000)</a:t>
            </a: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224" name=""/>
          <p:cNvSpPr/>
          <p:nvPr/>
        </p:nvSpPr>
        <p:spPr>
          <a:xfrm>
            <a:off x="8136000" y="2133720"/>
            <a:ext cx="1492200" cy="372420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6718320" y="2124000"/>
            <a:ext cx="1301760" cy="372420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276880" y="2114640"/>
            <a:ext cx="1263600" cy="374328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3814920" y="2114640"/>
            <a:ext cx="1293480" cy="374328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758880" y="857160"/>
            <a:ext cx="952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524200" y="230184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4052520" y="22780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975600" y="2900520"/>
            <a:ext cx="1245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NewsGoth BT"/>
              </a:rPr>
              <a:t>Net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992880" y="3346560"/>
            <a:ext cx="1541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NewsGoth BT"/>
              </a:rPr>
              <a:t>Gross Pro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971280" y="5484960"/>
            <a:ext cx="1175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EPS (li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922320" y="4762440"/>
            <a:ext cx="22669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NewsGoth BT"/>
              </a:rPr>
              <a:t>Operating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3980880" y="286704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52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08160" y="332424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281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sGoth BT"/>
              </a:rPr>
              <a:t>53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4052160" y="4768920"/>
            <a:ext cx="753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37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sGoth BT"/>
              </a:rPr>
              <a:t>7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5452560" y="286704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59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79840" y="332424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329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sGoth BT"/>
              </a:rPr>
              <a:t>55.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4196520" y="5465880"/>
            <a:ext cx="619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9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992880" y="4070520"/>
            <a:ext cx="1541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NewsGoth BT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3908160" y="404820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58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sGoth BT"/>
              </a:rPr>
              <a:t>11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379840" y="404820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6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sGoth BT"/>
              </a:rPr>
              <a:t>11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927000" y="4681440"/>
            <a:ext cx="87044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933480" y="2816280"/>
            <a:ext cx="86979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920880" y="3958920"/>
            <a:ext cx="8710560" cy="612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927000" y="5391000"/>
            <a:ext cx="8704440" cy="1296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936720" y="5848200"/>
            <a:ext cx="8691480" cy="1296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379840" y="476892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6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sGoth BT"/>
              </a:rPr>
              <a:t>10.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5524200" y="546588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972120" y="230040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6972120" y="286704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827760" y="332424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5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sGoth BT"/>
              </a:rPr>
              <a:t>56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827760" y="404820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sGoth BT"/>
              </a:rPr>
              <a:t>10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6827760" y="476892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sGoth BT"/>
              </a:rPr>
              <a:t>13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6972120" y="546588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30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8164440" y="2171880"/>
            <a:ext cx="1433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CA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1999-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8420760" y="286704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7.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8420760" y="345456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8.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8420760" y="415764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4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8420760" y="487836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36.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8420760" y="546588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35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947880" y="2266920"/>
            <a:ext cx="2361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NewsGoth BT"/>
              </a:rPr>
              <a:t>(billion li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 flipV="1">
            <a:off x="914400" y="1863720"/>
            <a:ext cx="9377280" cy="64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933480" y="3282840"/>
            <a:ext cx="86979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"/>
          <p:cNvSpPr/>
          <p:nvPr/>
        </p:nvSpPr>
        <p:spPr>
          <a:xfrm>
            <a:off x="8496360" y="2651040"/>
            <a:ext cx="1276200" cy="345924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762120" y="87588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NewsGoth BT"/>
              </a:rPr>
              <a:t>2000-2001 EXCEEDING OUR TARGETS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268" name=""/>
          <p:cNvSpPr/>
          <p:nvPr/>
        </p:nvSpPr>
        <p:spPr>
          <a:xfrm>
            <a:off x="7045200" y="2649600"/>
            <a:ext cx="1276560" cy="347328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5288040" y="2658960"/>
            <a:ext cx="1263600" cy="345924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3840120" y="2660760"/>
            <a:ext cx="1293840" cy="346716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758880" y="1066680"/>
            <a:ext cx="9523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1060560" y="1638360"/>
            <a:ext cx="922176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5522400" y="281628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106520" y="2792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1144080" y="3443400"/>
            <a:ext cx="14868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NET 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301280" y="3398760"/>
            <a:ext cx="619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5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729760" y="3405240"/>
            <a:ext cx="619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8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1078560" y="4562640"/>
            <a:ext cx="27867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OPERATING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4002840" y="454824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0.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5431320" y="456264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1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311600" y="281448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7506360" y="3411360"/>
            <a:ext cx="619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6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140240" y="4560840"/>
            <a:ext cx="9867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3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8764200" y="281772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9034920" y="3425760"/>
            <a:ext cx="619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8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8713080" y="4573440"/>
            <a:ext cx="9702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1233360" y="2016000"/>
            <a:ext cx="19782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NewsGoth BT"/>
              </a:rPr>
              <a:t>(billion li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3824280" y="1781280"/>
            <a:ext cx="2719440" cy="79848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50000">
                <a:srgbClr val="0061cc"/>
              </a:gs>
              <a:gs pos="100000">
                <a:srgbClr val="0000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4186800" y="1859040"/>
            <a:ext cx="206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AS PRESEN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MAY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7031160" y="1778040"/>
            <a:ext cx="2719440" cy="79848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50000">
                <a:srgbClr val="009900"/>
              </a:gs>
              <a:gs pos="100000">
                <a:srgbClr val="00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7639200" y="1844640"/>
            <a:ext cx="144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OUTL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023840" y="5553000"/>
            <a:ext cx="87426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1061280" y="5183280"/>
            <a:ext cx="24912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EPS (lira, pre-spl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1110960" y="5697360"/>
            <a:ext cx="22564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DEBT TO EQ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7435080" y="564840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0.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5658480" y="565164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0.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230000" y="566568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4157280" y="516744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8560800" y="5562720"/>
            <a:ext cx="1101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NewsGoth BT"/>
              </a:rPr>
              <a:t>&lt; 0.5 </a:t>
            </a:r>
            <a:r>
              <a:rPr b="1" lang="it-IT" sz="1600" spc="-1" strike="noStrike">
                <a:solidFill>
                  <a:srgbClr val="ffffff"/>
                </a:solidFill>
                <a:latin typeface="NewsGoth BT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NewsGoth BT"/>
              </a:rPr>
              <a:t>acqui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362360" y="515160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2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094040" y="3971880"/>
            <a:ext cx="11059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EBIT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017720" y="3844800"/>
            <a:ext cx="8748720" cy="5040"/>
          </a:xfrm>
          <a:custGeom>
            <a:avLst/>
            <a:gdLst/>
            <a:ahLst/>
            <a:rect l="l" t="t" r="r" b="b"/>
            <a:pathLst>
              <a:path w="5511" h="3">
                <a:moveTo>
                  <a:pt x="0" y="3"/>
                </a:moveTo>
                <a:lnTo>
                  <a:pt x="5511" y="0"/>
                </a:ln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7140240" y="3970440"/>
            <a:ext cx="9867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9.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8713080" y="3983040"/>
            <a:ext cx="9702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017720" y="3273480"/>
            <a:ext cx="8748720" cy="4680"/>
          </a:xfrm>
          <a:custGeom>
            <a:avLst/>
            <a:gdLst/>
            <a:ahLst/>
            <a:rect l="l" t="t" r="r" b="b"/>
            <a:pathLst>
              <a:path w="5511" h="3">
                <a:moveTo>
                  <a:pt x="0" y="3"/>
                </a:moveTo>
                <a:lnTo>
                  <a:pt x="5511" y="0"/>
                </a:ln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017720" y="4403880"/>
            <a:ext cx="8748720" cy="4680"/>
          </a:xfrm>
          <a:custGeom>
            <a:avLst/>
            <a:gdLst/>
            <a:ahLst/>
            <a:rect l="l" t="t" r="r" b="b"/>
            <a:pathLst>
              <a:path w="5511" h="3">
                <a:moveTo>
                  <a:pt x="0" y="3"/>
                </a:moveTo>
                <a:lnTo>
                  <a:pt x="5511" y="0"/>
                </a:ln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017720" y="4987800"/>
            <a:ext cx="8748720" cy="5040"/>
          </a:xfrm>
          <a:custGeom>
            <a:avLst/>
            <a:gdLst/>
            <a:ahLst/>
            <a:rect l="l" t="t" r="r" b="b"/>
            <a:pathLst>
              <a:path w="5511" h="3">
                <a:moveTo>
                  <a:pt x="0" y="3"/>
                </a:moveTo>
                <a:lnTo>
                  <a:pt x="5511" y="0"/>
                </a:ln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/>
          <p:nvPr/>
        </p:nvSpPr>
        <p:spPr>
          <a:xfrm>
            <a:off x="0" y="0"/>
            <a:ext cx="692280" cy="6832440"/>
          </a:xfrm>
          <a:prstGeom prst="rect">
            <a:avLst/>
          </a:prstGeom>
          <a:solidFill>
            <a:srgbClr val="ffd501"/>
          </a:solidFill>
          <a:ln w="936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9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2310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3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5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2316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20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grpSp>
        <p:nvGrpSpPr>
          <p:cNvPr id="2321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2322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90" name="" descr=""/>
          <p:cNvPicPr/>
          <p:nvPr/>
        </p:nvPicPr>
        <p:blipFill>
          <a:blip r:embed="rId2"/>
          <a:stretch/>
        </p:blipFill>
        <p:spPr>
          <a:xfrm>
            <a:off x="3844800" y="1914480"/>
            <a:ext cx="4321440" cy="630360"/>
          </a:xfrm>
          <a:prstGeom prst="rect">
            <a:avLst/>
          </a:prstGeom>
          <a:ln w="0">
            <a:noFill/>
          </a:ln>
        </p:spPr>
      </p:pic>
      <p:sp>
        <p:nvSpPr>
          <p:cNvPr id="2491" name=""/>
          <p:cNvSpPr/>
          <p:nvPr/>
        </p:nvSpPr>
        <p:spPr>
          <a:xfrm>
            <a:off x="706320" y="4729320"/>
            <a:ext cx="958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1"/>
                </a:solidFill>
                <a:latin typeface="NewsGoth BT"/>
              </a:rPr>
              <a:t>Banca IMI Investment Sem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1"/>
                </a:solidFill>
                <a:latin typeface="NewsGoth BT"/>
              </a:rPr>
              <a:t>Milan, 8 March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247760" y="3271680"/>
            <a:ext cx="875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NewsGoth BT"/>
              </a:rPr>
              <a:t>2000-2001 Exceeding our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WHO WE ARE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2266920" y="2558880"/>
            <a:ext cx="879480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In business for 7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A public company since 19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Always profitable, a regular dividend p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A strong, aggressive mark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A long-lasting commitment to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R&amp;D success accelerates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39880" y="1692360"/>
            <a:ext cx="944244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KEY EVENTS IN 2000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187280" y="3087360"/>
            <a:ext cx="87948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Strong improvement in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Expansion in France completed success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Zanidi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NewsGoth BT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license for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Pharmacia agreement: a strong basis for further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39880" y="1692360"/>
            <a:ext cx="944244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0" y="0"/>
            <a:ext cx="692280" cy="6832440"/>
          </a:xfrm>
          <a:prstGeom prst="rect">
            <a:avLst/>
          </a:prstGeom>
          <a:solidFill>
            <a:srgbClr val="ffd501"/>
          </a:solidFill>
          <a:ln w="936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782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788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grpSp>
        <p:nvGrpSpPr>
          <p:cNvPr id="793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794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2" name="" descr=""/>
          <p:cNvPicPr/>
          <p:nvPr/>
        </p:nvPicPr>
        <p:blipFill>
          <a:blip r:embed="rId2"/>
          <a:stretch/>
        </p:blipFill>
        <p:spPr>
          <a:xfrm>
            <a:off x="3844800" y="1914480"/>
            <a:ext cx="4321440" cy="63036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704880" y="4581360"/>
            <a:ext cx="9582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NewsGoth BT"/>
              </a:rPr>
              <a:t>Fritz Squi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Goth BT"/>
              </a:rPr>
              <a:t>Chief Financial Offic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28872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84F0-E6A6-44D3-97A7-B1D5CC74FD61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0" y="0"/>
            <a:ext cx="692280" cy="6834240"/>
          </a:xfrm>
          <a:prstGeom prst="rect">
            <a:avLst/>
          </a:prstGeom>
          <a:solidFill>
            <a:srgbClr val="ffd501"/>
          </a:solidFill>
          <a:ln w="936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967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051000" y="3228840"/>
            <a:ext cx="578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NewsGoth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YEAR 2000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NewsGoth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QUARTERLY SALES AND E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NewsGoth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COMPOSITION OF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NewsGoth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YEAR 2000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NewsGoth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EBITDA BY BUSINESS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NewsGoth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CAPITAL EMPL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928872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53A6-6161-48C1-B8DC-6D9FBFADD60A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975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/>
          <p:cNvPicPr/>
          <p:nvPr/>
        </p:nvPicPr>
        <p:blipFill>
          <a:blip r:embed="rId2"/>
          <a:stretch/>
        </p:blipFill>
        <p:spPr>
          <a:xfrm>
            <a:off x="3851280" y="1914480"/>
            <a:ext cx="4314960" cy="623880"/>
          </a:xfrm>
          <a:prstGeom prst="rect">
            <a:avLst/>
          </a:prstGeom>
          <a:ln w="0">
            <a:noFill/>
          </a:ln>
        </p:spPr>
      </p:pic>
      <p:grpSp>
        <p:nvGrpSpPr>
          <p:cNvPr id="981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982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3809880" y="1488960"/>
            <a:ext cx="1940040" cy="440388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416480" y="2082960"/>
            <a:ext cx="702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526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356720" y="24843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81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53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471200" y="4267080"/>
            <a:ext cx="636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7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7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471200" y="4867200"/>
            <a:ext cx="636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8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7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471200" y="5400720"/>
            <a:ext cx="636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4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56720" y="371016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7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3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141800" y="150480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NewsGoth BT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356720" y="310212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58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1.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956200" y="1495440"/>
            <a:ext cx="1905120" cy="439740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580080" y="2082960"/>
            <a:ext cx="702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689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520680" y="24843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9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58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520680" y="426708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9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3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520680" y="486720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79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1.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634800" y="5400720"/>
            <a:ext cx="636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5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7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520680" y="370368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36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9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364440" y="15048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520680" y="310212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71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0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107200" y="1492200"/>
            <a:ext cx="1827360" cy="43783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671680" y="2082960"/>
            <a:ext cx="752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30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8671680" y="2602080"/>
            <a:ext cx="752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41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372520" y="4363920"/>
            <a:ext cx="105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42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557560" y="4964040"/>
            <a:ext cx="86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07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557560" y="5497560"/>
            <a:ext cx="86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28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8671680" y="3768840"/>
            <a:ext cx="752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89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210520" y="1504800"/>
            <a:ext cx="15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Change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671680" y="3198960"/>
            <a:ext cx="752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21.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801720" y="9320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YEAR 2000 RESUL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78680" y="2070000"/>
            <a:ext cx="124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Net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97040" y="2486160"/>
            <a:ext cx="1541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Gross Pro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911160" y="2457360"/>
            <a:ext cx="90234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911160" y="4773600"/>
            <a:ext cx="90234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911160" y="5353200"/>
            <a:ext cx="90234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911160" y="5883120"/>
            <a:ext cx="9023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911160" y="1924200"/>
            <a:ext cx="90234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914400" y="3614760"/>
            <a:ext cx="90201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911160" y="3035160"/>
            <a:ext cx="90234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83640" y="4229280"/>
            <a:ext cx="2326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Operating Inc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20720" y="4809960"/>
            <a:ext cx="1851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Pretax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97040" y="5354640"/>
            <a:ext cx="1541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Net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12880" y="3666960"/>
            <a:ext cx="1541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EBIT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838080" y="149400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(billion li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59960" y="3073320"/>
            <a:ext cx="178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R&amp;D Exp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914400" y="4194000"/>
            <a:ext cx="90201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896760" y="1371600"/>
            <a:ext cx="938556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762120" y="894960"/>
            <a:ext cx="9524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QUARTERLY SALES DEVELOPMENT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graphicFrame>
        <p:nvGraphicFramePr>
          <p:cNvPr id="1196" name=""/>
          <p:cNvGraphicFramePr/>
          <p:nvPr/>
        </p:nvGraphicFramePr>
        <p:xfrm>
          <a:off x="971640" y="1873080"/>
          <a:ext cx="9239040" cy="43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73080"/>
                    <a:ext cx="923904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8" name=""/>
          <p:cNvSpPr/>
          <p:nvPr/>
        </p:nvSpPr>
        <p:spPr>
          <a:xfrm>
            <a:off x="906480" y="1581120"/>
            <a:ext cx="938520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6:14:02Z</dcterms:created>
  <dc:creator>Vale</dc:creator>
  <dc:description/>
  <dc:language>en-US</dc:language>
  <cp:lastModifiedBy>Callegari</cp:lastModifiedBy>
  <cp:lastPrinted>2001-02-22T09:56:53Z</cp:lastPrinted>
  <dcterms:modified xsi:type="dcterms:W3CDTF">2001-03-05T14:27:43Z</dcterms:modified>
  <cp:revision>597</cp:revision>
  <dc:subject/>
  <dc:title> </dc:title>
</cp:coreProperties>
</file>